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25.wmf" ContentType="image/x-wmf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A40B-CC8B-4BAC-A85C-392C16BCACE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D0B1-E259-4DCA-9BD7-2993983886CD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ecure File Transfer Protocol(SFTP) server is suggested to be located inside the DMZ to receive structured message files from supplier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4C3E-7F26-44D3-B9AC-2CCFBC770BB5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2575-4EC7-42C0-92FA-2478577421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7C57-0B78-4DDA-A659-F5EDF55678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3FCC-8E22-4CDA-813A-0DEE347DED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C158-1786-4FB3-8422-65A333C952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0E9-C9EB-4AB6-8764-5A12046A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DCE-6BA1-4462-A10C-534BA3BD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FF1-CD62-4495-9918-D36FCD76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DF8-3367-4558-85D0-EB88EA59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050D-2F4E-4D27-A9AB-195291BF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13E3-6222-4F7E-A4F6-7F64ECB2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A9EB-DBE4-4912-B349-3492BF2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E4F2-6E47-49FD-8CB3-7EDECF41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7A0E-D556-45A9-BA16-11340D7B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7889-E832-4D39-BEF1-2921E1C3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DFDF-36B3-40A9-A4A3-97ED0EC3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D17-1BFA-405D-92B4-2D4A91F6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00A2-E262-4002-9973-251AFF94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1F3C-ABE4-4F3F-81F7-EB3CAA6D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9D73-E8E0-4680-9601-847C8DE6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BB04-E857-4C4E-85E4-A7F29CA6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D913-2DD8-485A-8ED1-00FF9A78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EB5C-8186-4CF2-8DB6-46934BF5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5215-CCA8-4E10-88B9-A0BA53FA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E86E-82FC-4F5E-88CB-9ADFE3E2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D10B-01F2-4FFF-B3BD-14B2772A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056D-EAE2-4A38-9C27-5C9B4575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D41-0F6E-4FB3-AE09-F5E8410E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AC71-5E61-44E4-B4D1-4C50C4E2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558C-4665-44B2-9CB6-7ABDF2B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3068-68FC-4872-B79A-4F47083F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5F60-2125-4740-A19C-4E78E10B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C5DE-63DA-4A6A-9F2B-1ADF1517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C926-5892-4EEF-9CCD-1C706F03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FAB3-7949-4E3C-9B9C-142FF483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CB2D-BE23-4E9B-8FCB-1628F065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FAF7C-1006-484D-B3F4-91C91890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936FD-8710-47EC-A44F-439D291E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11E-5A7D-42A2-8591-4DA87CAA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A312-BC4E-4FED-B626-F92FC1F9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D110F-DF5D-4BDA-9DE6-895C1DBA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033BF-1E16-4EE6-BEEF-2DCAC232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C347E-AC60-4CBA-959F-B42B51FD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E2897-DEE9-4844-BF08-79CA3D42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69FF-0A56-43B4-B16E-60043B18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300B-A75C-4F4D-A479-567454DD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DF60-0307-42FB-9864-860012BF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4F75-10A4-440A-8703-5BB3CFA3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24A7-7069-4C8F-AB8A-527A58FF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2A7-E901-4CB7-9460-4F627822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1609C-12D0-4516-8278-74AC766C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9CF10-1176-4ACF-90C5-C87D4618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C7CC8-72BF-42EC-8121-80D3D05D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61BF6-8E62-4C9F-B970-5C8042CD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805C-4474-4006-BF2F-B35723F2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6B625-149C-49AA-971E-864531C3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FAF88-1746-492F-8E8C-7A754D68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BEDE6-1746-4853-B5EE-79846862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E6DEC-CF37-4686-BD89-ABCC2B5E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0989-7268-451B-829C-3B7EDE00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901-CDA4-4299-82BA-6141DE90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CFC26-1DF6-4580-B1B4-12DF47DF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763-5213-43A6-AA1E-55835D1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52C-91B0-497E-9252-0F3DF7F2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0DE-E8D0-4EAF-B3A2-D039E05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8BC9-3DFD-45C1-BDF2-2C8C2D68AA6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A5CA-BA0E-4321-803F-DB1D5B4AAD7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848D-6637-4791-BEAB-BB473184A30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F673-A5B7-455E-ADAE-03EC6450F9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剪去並圓角化單一角落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手繪多邊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手繪多邊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FF70-524A-4BFE-A9C0-942024E58F7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eppmgmtoff@ogcio.gov.hk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328680" y="1908000"/>
            <a:ext cx="8461440" cy="2455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10920" y="4797000"/>
            <a:ext cx="78548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13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月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及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7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308B-7C42-49DB-A4D0-EE6DA3DE4DAC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8" descr=""/>
          <p:cNvPicPr/>
          <p:nvPr/>
        </p:nvPicPr>
        <p:blipFill>
          <a:blip r:embed="rId1"/>
          <a:srcRect l="16294" t="8307" r="18054" b="5545"/>
          <a:stretch/>
        </p:blipFill>
        <p:spPr>
          <a:xfrm>
            <a:off x="179280" y="216000"/>
            <a:ext cx="8713800" cy="6092640"/>
          </a:xfrm>
          <a:prstGeom prst="rect">
            <a:avLst/>
          </a:prstGeom>
          <a:ln w="0">
            <a:noFill/>
          </a:ln>
        </p:spPr>
      </p:pic>
      <p:sp>
        <p:nvSpPr>
          <p:cNvPr id="29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9E4D-1528-4AE3-897C-D58D2D1BAFC5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圓角矩形圖說文字 5"/>
          <p:cNvSpPr/>
          <p:nvPr/>
        </p:nvSpPr>
        <p:spPr>
          <a:xfrm>
            <a:off x="3203640" y="1341360"/>
            <a:ext cx="2448000" cy="1152720"/>
          </a:xfrm>
          <a:prstGeom prst="wedgeRoundRectCallout">
            <a:avLst>
              <a:gd name="adj1" fmla="val -20879"/>
              <a:gd name="adj2" fmla="val 6388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沒有填入「發票號碼」，系統將自動產生一個唯一的號碼作為「發票號碼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圓角矩形圖說文字 6"/>
          <p:cNvSpPr/>
          <p:nvPr/>
        </p:nvSpPr>
        <p:spPr>
          <a:xfrm>
            <a:off x="6659640" y="2781360"/>
            <a:ext cx="1800000" cy="718920"/>
          </a:xfrm>
          <a:prstGeom prst="wedgeRoundRectCallout">
            <a:avLst>
              <a:gd name="adj1" fmla="val -91347"/>
              <a:gd name="adj2" fmla="val 4338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填入發票資料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圓角矩形 7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填寫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7" descr=""/>
          <p:cNvPicPr/>
          <p:nvPr/>
        </p:nvPicPr>
        <p:blipFill>
          <a:blip r:embed="rId1"/>
          <a:srcRect l="16704" t="14853" r="17578" b="12008"/>
          <a:stretch/>
        </p:blipFill>
        <p:spPr>
          <a:xfrm>
            <a:off x="468360" y="1989000"/>
            <a:ext cx="8207280" cy="4869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"/>
          <p:cNvPicPr/>
          <p:nvPr/>
        </p:nvPicPr>
        <p:blipFill>
          <a:blip r:embed="rId2"/>
          <a:srcRect l="16695" t="23881" r="17586" b="45457"/>
          <a:stretch/>
        </p:blipFill>
        <p:spPr>
          <a:xfrm>
            <a:off x="468360" y="0"/>
            <a:ext cx="8207280" cy="204156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BCE4-99DE-4BE5-89E3-2A6FB76D8961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圓角矩形 4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填寫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圓角矩形圖說文字 5"/>
          <p:cNvSpPr/>
          <p:nvPr/>
        </p:nvSpPr>
        <p:spPr>
          <a:xfrm>
            <a:off x="34920" y="11592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填入發票項目資料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圓角矩形圖說文字 7"/>
          <p:cNvSpPr/>
          <p:nvPr/>
        </p:nvSpPr>
        <p:spPr>
          <a:xfrm>
            <a:off x="0" y="3573360"/>
            <a:ext cx="1800360" cy="1081080"/>
          </a:xfrm>
          <a:prstGeom prst="wedgeRoundRectCallout">
            <a:avLst>
              <a:gd name="adj1" fmla="val 67388"/>
              <a:gd name="adj2" fmla="val 2133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填入備註，例如提早付款折扣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圓角矩形圖說文字 8"/>
          <p:cNvSpPr/>
          <p:nvPr/>
        </p:nvSpPr>
        <p:spPr>
          <a:xfrm>
            <a:off x="0" y="242100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有需要，　可提交附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圓角矩形圖說文字 10"/>
          <p:cNvSpPr/>
          <p:nvPr/>
        </p:nvSpPr>
        <p:spPr>
          <a:xfrm>
            <a:off x="0" y="4896000"/>
            <a:ext cx="1835280" cy="1989000"/>
          </a:xfrm>
          <a:prstGeom prst="wedgeRoundRectCallout">
            <a:avLst>
              <a:gd name="adj1" fmla="val 63212"/>
              <a:gd name="adj2" fmla="val -164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需讀取儲存在你的電腦內的草稿，可按「瀏覽」選擇草稿檔案，然後按「讀取草稿」 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圓角矩形圖說文字 9"/>
          <p:cNvSpPr/>
          <p:nvPr/>
        </p:nvSpPr>
        <p:spPr>
          <a:xfrm>
            <a:off x="4211640" y="3860640"/>
            <a:ext cx="2808360" cy="1079640"/>
          </a:xfrm>
          <a:prstGeom prst="wedgeRoundRectCallout">
            <a:avLst>
              <a:gd name="adj1" fmla="val 22814"/>
              <a:gd name="adj2" fmla="val 6924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需暫時停止提交，可按「儲存為草稿」把草稿儲存到你的電腦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矩形 12"/>
          <p:cNvSpPr/>
          <p:nvPr/>
        </p:nvSpPr>
        <p:spPr>
          <a:xfrm>
            <a:off x="7812000" y="5181480"/>
            <a:ext cx="720720" cy="393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矩形 13"/>
          <p:cNvSpPr/>
          <p:nvPr/>
        </p:nvSpPr>
        <p:spPr>
          <a:xfrm>
            <a:off x="5796000" y="5168880"/>
            <a:ext cx="1297080" cy="419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矩形 14"/>
          <p:cNvSpPr/>
          <p:nvPr/>
        </p:nvSpPr>
        <p:spPr>
          <a:xfrm>
            <a:off x="5435640" y="6093000"/>
            <a:ext cx="936720" cy="307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矩形 15"/>
          <p:cNvSpPr/>
          <p:nvPr/>
        </p:nvSpPr>
        <p:spPr>
          <a:xfrm>
            <a:off x="7308720" y="6380280"/>
            <a:ext cx="1150920" cy="36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圓角矩形圖說文字 11"/>
          <p:cNvSpPr/>
          <p:nvPr/>
        </p:nvSpPr>
        <p:spPr>
          <a:xfrm>
            <a:off x="7236000" y="3573360"/>
            <a:ext cx="1692000" cy="1079640"/>
          </a:xfrm>
          <a:prstGeom prst="wedgeRoundRectCallout">
            <a:avLst>
              <a:gd name="adj1" fmla="val 8958"/>
              <a:gd name="adj2" fmla="val 9159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繼續」提交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8000">
    <p:wipe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rcRect l="16471" t="8307" r="17785" b="4148"/>
          <a:stretch/>
        </p:blipFill>
        <p:spPr>
          <a:xfrm>
            <a:off x="203040" y="0"/>
            <a:ext cx="872496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2E2E-C74F-4AA5-B260-BB089925E755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2" name="圓角矩形 4"/>
          <p:cNvGrpSpPr/>
          <p:nvPr/>
        </p:nvGrpSpPr>
        <p:grpSpPr>
          <a:xfrm>
            <a:off x="6022800" y="1017720"/>
            <a:ext cx="2926080" cy="866520"/>
            <a:chOff x="6022800" y="1017720"/>
            <a:chExt cx="2926080" cy="866520"/>
          </a:xfrm>
        </p:grpSpPr>
        <p:pic>
          <p:nvPicPr>
            <p:cNvPr id="313" name="圓角矩形 4" descr=""/>
            <p:cNvPicPr/>
            <p:nvPr/>
          </p:nvPicPr>
          <p:blipFill>
            <a:blip r:embed="rId2"/>
            <a:stretch/>
          </p:blipFill>
          <p:spPr>
            <a:xfrm>
              <a:off x="6022800" y="1017720"/>
              <a:ext cx="292608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191280" y="1087560"/>
              <a:ext cx="25938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檢查發票內容是否正確。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7" descr=""/>
          <p:cNvPicPr/>
          <p:nvPr/>
        </p:nvPicPr>
        <p:blipFill>
          <a:blip r:embed="rId1"/>
          <a:srcRect l="16568" t="8307" r="17691" b="4330"/>
          <a:stretch/>
        </p:blipFill>
        <p:spPr>
          <a:xfrm>
            <a:off x="216000" y="0"/>
            <a:ext cx="8724960" cy="617868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F771-060A-4C92-BCB9-EF18AD0DF145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圓角矩形圖說文字 6"/>
          <p:cNvSpPr/>
          <p:nvPr/>
        </p:nvSpPr>
        <p:spPr>
          <a:xfrm>
            <a:off x="3419640" y="2133720"/>
            <a:ext cx="244764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提交發票的認証方式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矩形 10"/>
          <p:cNvSpPr/>
          <p:nvPr/>
        </p:nvSpPr>
        <p:spPr>
          <a:xfrm>
            <a:off x="1692360" y="3573360"/>
            <a:ext cx="266364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wipe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3" descr=""/>
          <p:cNvPicPr/>
          <p:nvPr/>
        </p:nvPicPr>
        <p:blipFill>
          <a:blip r:embed="rId1"/>
          <a:srcRect l="16471" t="8307" r="17785" b="4885"/>
          <a:stretch/>
        </p:blipFill>
        <p:spPr>
          <a:xfrm>
            <a:off x="203040" y="0"/>
            <a:ext cx="8724960" cy="6140520"/>
          </a:xfrm>
          <a:prstGeom prst="rect">
            <a:avLst/>
          </a:prstGeom>
          <a:ln w="0">
            <a:noFill/>
          </a:ln>
        </p:spPr>
      </p:pic>
      <p:sp>
        <p:nvSpPr>
          <p:cNvPr id="321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D3D8-7374-4E8C-BAB1-C841CB60D9CD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以數碼証書認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圓角矩形圖說文字 7"/>
          <p:cNvSpPr/>
          <p:nvPr/>
        </p:nvSpPr>
        <p:spPr>
          <a:xfrm>
            <a:off x="4500720" y="3141720"/>
            <a:ext cx="2592360" cy="1150920"/>
          </a:xfrm>
          <a:prstGeom prst="wedgeRoundRectCallout">
            <a:avLst>
              <a:gd name="adj1" fmla="val -69541"/>
              <a:gd name="adj2" fmla="val 4777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數碼證書種類及輸入香港身份證號碼或公司註冊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公司登記證編號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矩形 11"/>
          <p:cNvSpPr/>
          <p:nvPr/>
        </p:nvSpPr>
        <p:spPr>
          <a:xfrm>
            <a:off x="8028000" y="5661000"/>
            <a:ext cx="792000" cy="42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圓角矩形圖說文字 12"/>
          <p:cNvSpPr/>
          <p:nvPr/>
        </p:nvSpPr>
        <p:spPr>
          <a:xfrm>
            <a:off x="2340000" y="2205000"/>
            <a:ext cx="244800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方法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 (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數碼証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圓角矩形圖說文字 8"/>
          <p:cNvSpPr/>
          <p:nvPr/>
        </p:nvSpPr>
        <p:spPr>
          <a:xfrm>
            <a:off x="5796000" y="4365720"/>
            <a:ext cx="1800360" cy="647640"/>
          </a:xfrm>
          <a:prstGeom prst="wedgeRoundRectCallout">
            <a:avLst>
              <a:gd name="adj1" fmla="val -63055"/>
              <a:gd name="adj2" fmla="val 3332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數碼證書檔案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圓角矩形圖說文字 9"/>
          <p:cNvSpPr/>
          <p:nvPr/>
        </p:nvSpPr>
        <p:spPr>
          <a:xfrm>
            <a:off x="2700360" y="5589720"/>
            <a:ext cx="2374920" cy="649080"/>
          </a:xfrm>
          <a:prstGeom prst="wedgeRoundRectCallout">
            <a:avLst>
              <a:gd name="adj1" fmla="val 26930"/>
              <a:gd name="adj2" fmla="val -7427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數碼證書密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圓角矩形圖說文字 10"/>
          <p:cNvSpPr/>
          <p:nvPr/>
        </p:nvSpPr>
        <p:spPr>
          <a:xfrm>
            <a:off x="7667640" y="4581360"/>
            <a:ext cx="1297080" cy="79236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確認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4" descr=""/>
          <p:cNvPicPr/>
          <p:nvPr/>
        </p:nvPicPr>
        <p:blipFill>
          <a:blip r:embed="rId1"/>
          <a:srcRect l="27594" t="8462" r="17857" b="7507"/>
          <a:stretch/>
        </p:blipFill>
        <p:spPr>
          <a:xfrm>
            <a:off x="1258920" y="914400"/>
            <a:ext cx="7240680" cy="5943600"/>
          </a:xfrm>
          <a:prstGeom prst="rect">
            <a:avLst/>
          </a:prstGeom>
          <a:ln w="0">
            <a:noFill/>
          </a:ln>
        </p:spPr>
      </p:pic>
      <p:sp>
        <p:nvSpPr>
          <p:cNvPr id="330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9AD1-EE13-4E23-8562-FEFAC6EB2CDA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以邀請碼認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圓角矩形圖說文字 7"/>
          <p:cNvSpPr/>
          <p:nvPr/>
        </p:nvSpPr>
        <p:spPr>
          <a:xfrm>
            <a:off x="6156360" y="4221000"/>
            <a:ext cx="2592360" cy="1008360"/>
          </a:xfrm>
          <a:prstGeom prst="wedgeRoundRectCallout">
            <a:avLst>
              <a:gd name="adj1" fmla="val -80606"/>
              <a:gd name="adj2" fmla="val 36611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查看你的電郵帳戶以收取邀請碼，然後輸入邀請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圓角矩形圖說文字 9"/>
          <p:cNvSpPr/>
          <p:nvPr/>
        </p:nvSpPr>
        <p:spPr>
          <a:xfrm>
            <a:off x="179280" y="5732640"/>
            <a:ext cx="2880000" cy="936360"/>
          </a:xfrm>
          <a:prstGeom prst="wedgeRoundRectCallout">
            <a:avLst>
              <a:gd name="adj1" fmla="val 81055"/>
              <a:gd name="adj2" fmla="val -3037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按此」以索取邀請碼，邀請碼會發送到您註冊的電子郵件帳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矩形 11"/>
          <p:cNvSpPr/>
          <p:nvPr/>
        </p:nvSpPr>
        <p:spPr>
          <a:xfrm>
            <a:off x="7583400" y="6362640"/>
            <a:ext cx="824040" cy="425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圓角矩形圖說文字 13"/>
          <p:cNvSpPr/>
          <p:nvPr/>
        </p:nvSpPr>
        <p:spPr>
          <a:xfrm>
            <a:off x="4500720" y="3500280"/>
            <a:ext cx="1511280" cy="865440"/>
          </a:xfrm>
          <a:prstGeom prst="wedgeRoundRectCallout">
            <a:avLst>
              <a:gd name="adj1" fmla="val -102259"/>
              <a:gd name="adj2" fmla="val 8397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方法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邀請碼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15" descr=""/>
          <p:cNvPicPr/>
          <p:nvPr/>
        </p:nvPicPr>
        <p:blipFill>
          <a:blip r:embed="rId2"/>
          <a:srcRect l="12966" t="29322" r="54604" b="9942"/>
          <a:stretch/>
        </p:blipFill>
        <p:spPr>
          <a:xfrm>
            <a:off x="0" y="0"/>
            <a:ext cx="4219560" cy="4211640"/>
          </a:xfrm>
          <a:prstGeom prst="rect">
            <a:avLst/>
          </a:prstGeom>
          <a:ln w="0">
            <a:noFill/>
          </a:ln>
        </p:spPr>
      </p:pic>
      <p:sp>
        <p:nvSpPr>
          <p:cNvPr id="337" name="矩形 17"/>
          <p:cNvSpPr/>
          <p:nvPr/>
        </p:nvSpPr>
        <p:spPr>
          <a:xfrm>
            <a:off x="179280" y="1628640"/>
            <a:ext cx="257040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圓角矩形圖說文字 8"/>
          <p:cNvSpPr/>
          <p:nvPr/>
        </p:nvSpPr>
        <p:spPr>
          <a:xfrm>
            <a:off x="4572000" y="5877000"/>
            <a:ext cx="2233440" cy="649080"/>
          </a:xfrm>
          <a:prstGeom prst="wedgeRoundRectCallout">
            <a:avLst>
              <a:gd name="adj1" fmla="val -41472"/>
              <a:gd name="adj2" fmla="val -9187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你的登入密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圓角矩形圖說文字 16"/>
          <p:cNvSpPr/>
          <p:nvPr/>
        </p:nvSpPr>
        <p:spPr>
          <a:xfrm>
            <a:off x="6804000" y="5516640"/>
            <a:ext cx="1871640" cy="57456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確認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rcRect l="16452" t="8234" r="17805" b="4314"/>
          <a:stretch/>
        </p:blipFill>
        <p:spPr>
          <a:xfrm>
            <a:off x="127080" y="260280"/>
            <a:ext cx="8724960" cy="6186600"/>
          </a:xfrm>
          <a:prstGeom prst="rect">
            <a:avLst/>
          </a:prstGeom>
          <a:ln w="0">
            <a:noFill/>
          </a:ln>
        </p:spPr>
      </p:pic>
      <p:sp>
        <p:nvSpPr>
          <p:cNvPr id="341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8713-4AC6-4359-9D07-7DB46A5D530B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成功提交的確認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0" descr=""/>
          <p:cNvPicPr/>
          <p:nvPr/>
        </p:nvPicPr>
        <p:blipFill>
          <a:blip r:embed="rId1"/>
          <a:srcRect l="16452" t="8826" r="17904" b="5789"/>
          <a:stretch/>
        </p:blipFill>
        <p:spPr>
          <a:xfrm>
            <a:off x="127080" y="0"/>
            <a:ext cx="8712000" cy="603900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3835-9EA6-4BB7-B15F-9D4B2CC22920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成功提交的確認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矩形 6"/>
          <p:cNvSpPr/>
          <p:nvPr/>
        </p:nvSpPr>
        <p:spPr>
          <a:xfrm>
            <a:off x="7956720" y="5589720"/>
            <a:ext cx="792000" cy="40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矩形 7"/>
          <p:cNvSpPr/>
          <p:nvPr/>
        </p:nvSpPr>
        <p:spPr>
          <a:xfrm>
            <a:off x="7061040" y="5589720"/>
            <a:ext cx="750960" cy="40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8" name="圓角矩形 9"/>
          <p:cNvGrpSpPr/>
          <p:nvPr/>
        </p:nvGrpSpPr>
        <p:grpSpPr>
          <a:xfrm>
            <a:off x="3560760" y="1158840"/>
            <a:ext cx="4613400" cy="1590840"/>
            <a:chOff x="3560760" y="1158840"/>
            <a:chExt cx="4613400" cy="1590840"/>
          </a:xfrm>
        </p:grpSpPr>
        <p:pic>
          <p:nvPicPr>
            <p:cNvPr id="349" name="圓角矩形 9" descr=""/>
            <p:cNvPicPr/>
            <p:nvPr/>
          </p:nvPicPr>
          <p:blipFill>
            <a:blip r:embed="rId2"/>
            <a:stretch/>
          </p:blipFill>
          <p:spPr>
            <a:xfrm>
              <a:off x="3560760" y="1158840"/>
              <a:ext cx="461340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3706920" y="1266840"/>
              <a:ext cx="43225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提交電子發票的帳戶以及啟用了「接收電子發票通知」的附屬帳戶，均會接收到電子郵件以資確認。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1" name="圓角矩形圖說文字 4"/>
          <p:cNvSpPr/>
          <p:nvPr/>
        </p:nvSpPr>
        <p:spPr>
          <a:xfrm>
            <a:off x="7380360" y="4508640"/>
            <a:ext cx="1728720" cy="792000"/>
          </a:xfrm>
          <a:prstGeom prst="wedgeRoundRectCallout">
            <a:avLst>
              <a:gd name="adj1" fmla="val 11342"/>
              <a:gd name="adj2" fmla="val 7463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「列印」以列印一份副本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圓角矩形圖說文字 8"/>
          <p:cNvSpPr/>
          <p:nvPr/>
        </p:nvSpPr>
        <p:spPr>
          <a:xfrm>
            <a:off x="5435640" y="4508640"/>
            <a:ext cx="1728720" cy="792000"/>
          </a:xfrm>
          <a:prstGeom prst="wedgeRoundRectCallout">
            <a:avLst>
              <a:gd name="adj1" fmla="val 60560"/>
              <a:gd name="adj2" fmla="val 810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儲存」以保存一份副本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2000">
    <p:wipe dir="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8A4A-4C27-43D8-B224-EDDDC4B0526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0" lang="zh-TW" sz="3200" spc="-1" strike="noStrike">
                <a:solidFill>
                  <a:srgbClr val="04617b"/>
                </a:solidFill>
                <a:latin typeface="Calibri"/>
              </a:rPr>
              <a:t>供應商通過結構化信息渠道提交電子發票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5" name="Picture 5" descr="C:\Users\Eric Po\AppData\Local\Microsoft\Windows\Temporary Internet Files\Content.IE5\DFCGSZB4\MP900443451[1].jpg"/>
          <p:cNvPicPr/>
          <p:nvPr/>
        </p:nvPicPr>
        <p:blipFill>
          <a:blip r:embed="rId1"/>
          <a:srcRect l="0" t="0" r="4452" b="0"/>
          <a:stretch/>
        </p:blipFill>
        <p:spPr>
          <a:xfrm>
            <a:off x="28440" y="1484280"/>
            <a:ext cx="21337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43"/>
          <p:cNvGrpSpPr/>
          <p:nvPr/>
        </p:nvGrpSpPr>
        <p:grpSpPr>
          <a:xfrm>
            <a:off x="1979640" y="5445000"/>
            <a:ext cx="4581000" cy="825480"/>
            <a:chOff x="1979640" y="5445000"/>
            <a:chExt cx="4581000" cy="825480"/>
          </a:xfrm>
        </p:grpSpPr>
        <p:sp>
          <p:nvSpPr>
            <p:cNvPr id="357" name="Rectangle 29"/>
            <p:cNvSpPr/>
            <p:nvPr/>
          </p:nvSpPr>
          <p:spPr>
            <a:xfrm>
              <a:off x="1985400" y="5445000"/>
              <a:ext cx="457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. 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確認通知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接受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被拒絕記錄的數目；拒絕的理由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1979640" y="5897520"/>
              <a:ext cx="457524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9" name="Rectangle 33"/>
          <p:cNvSpPr/>
          <p:nvPr/>
        </p:nvSpPr>
        <p:spPr>
          <a:xfrm>
            <a:off x="2065320" y="4762440"/>
            <a:ext cx="4883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0" name="Group 44"/>
          <p:cNvGrpSpPr/>
          <p:nvPr/>
        </p:nvGrpSpPr>
        <p:grpSpPr>
          <a:xfrm>
            <a:off x="1973160" y="4365720"/>
            <a:ext cx="4614840" cy="459720"/>
            <a:chOff x="1973160" y="4365720"/>
            <a:chExt cx="4614840" cy="459720"/>
          </a:xfrm>
        </p:grpSpPr>
        <p:sp>
          <p:nvSpPr>
            <p:cNvPr id="361" name="Rectangle 31"/>
            <p:cNvSpPr/>
            <p:nvPr/>
          </p:nvSpPr>
          <p:spPr>
            <a:xfrm>
              <a:off x="1979280" y="4365720"/>
              <a:ext cx="46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 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電子發票結構化信息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Line 39"/>
            <p:cNvSpPr/>
            <p:nvPr/>
          </p:nvSpPr>
          <p:spPr>
            <a:xfrm>
              <a:off x="1973160" y="4779360"/>
              <a:ext cx="457200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3" name="Text Box 40"/>
          <p:cNvSpPr/>
          <p:nvPr/>
        </p:nvSpPr>
        <p:spPr>
          <a:xfrm>
            <a:off x="61920" y="1484280"/>
            <a:ext cx="15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6633"/>
                </a:solidFill>
                <a:latin typeface="Times New Roman"/>
              </a:rPr>
              <a:t>供應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41"/>
          <p:cNvSpPr/>
          <p:nvPr/>
        </p:nvSpPr>
        <p:spPr>
          <a:xfrm>
            <a:off x="6622920" y="15508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6633"/>
                </a:solidFill>
                <a:latin typeface="Times New Roman"/>
              </a:rPr>
              <a:t>試點部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Group 2"/>
          <p:cNvGrpSpPr/>
          <p:nvPr/>
        </p:nvGrpSpPr>
        <p:grpSpPr>
          <a:xfrm>
            <a:off x="6559560" y="4336920"/>
            <a:ext cx="2620800" cy="2279880"/>
            <a:chOff x="6559560" y="4336920"/>
            <a:chExt cx="2620800" cy="2279880"/>
          </a:xfrm>
        </p:grpSpPr>
        <p:pic>
          <p:nvPicPr>
            <p:cNvPr id="366" name="Picture 12" descr="C:\Users\Eric Po\AppData\Local\Microsoft\Windows\Temporary Internet Files\Content.IE5\YN4F3SF3\MC900434845[1].png"/>
            <p:cNvPicPr/>
            <p:nvPr/>
          </p:nvPicPr>
          <p:blipFill>
            <a:blip r:embed="rId2"/>
            <a:stretch/>
          </p:blipFill>
          <p:spPr>
            <a:xfrm>
              <a:off x="6559560" y="4336920"/>
              <a:ext cx="191232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2" descr="C:\Users\Eric Po\AppData\Local\Microsoft\Windows\Temporary Internet Files\Content.IE5\YN4F3SF3\MC900434845[1].png"/>
            <p:cNvPicPr/>
            <p:nvPr/>
          </p:nvPicPr>
          <p:blipFill>
            <a:blip r:embed="rId3"/>
            <a:stretch/>
          </p:blipFill>
          <p:spPr>
            <a:xfrm>
              <a:off x="7268040" y="4510440"/>
              <a:ext cx="1912320" cy="210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8" name="Picture 15" descr="C:\Program Files (x86)\Microsoft Office\MEDIA\CAGCAT10\j0292020.wmf"/>
          <p:cNvPicPr/>
          <p:nvPr/>
        </p:nvPicPr>
        <p:blipFill>
          <a:blip r:embed="rId4"/>
          <a:stretch/>
        </p:blipFill>
        <p:spPr>
          <a:xfrm flipH="1">
            <a:off x="6856560" y="1959120"/>
            <a:ext cx="1614240" cy="153180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1"/>
          <p:cNvGrpSpPr/>
          <p:nvPr/>
        </p:nvGrpSpPr>
        <p:grpSpPr>
          <a:xfrm>
            <a:off x="23760" y="4581360"/>
            <a:ext cx="1514520" cy="2340000"/>
            <a:chOff x="23760" y="4581360"/>
            <a:chExt cx="1514520" cy="2340000"/>
          </a:xfrm>
        </p:grpSpPr>
        <p:pic>
          <p:nvPicPr>
            <p:cNvPr id="370" name="Picture 13" descr="C:\Users\Eric Po\AppData\Local\Microsoft\Windows\Temporary Internet Files\Content.IE5\DFCGSZB4\MC900435242[1].png"/>
            <p:cNvPicPr/>
            <p:nvPr/>
          </p:nvPicPr>
          <p:blipFill>
            <a:blip r:embed="rId5"/>
            <a:stretch/>
          </p:blipFill>
          <p:spPr>
            <a:xfrm>
              <a:off x="528480" y="4581360"/>
              <a:ext cx="100980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3" descr="C:\Users\Eric Po\AppData\Local\Microsoft\Windows\Temporary Internet Files\Content.IE5\DFCGSZB4\MC900435242[1].png"/>
            <p:cNvPicPr/>
            <p:nvPr/>
          </p:nvPicPr>
          <p:blipFill>
            <a:blip r:embed="rId6"/>
            <a:stretch/>
          </p:blipFill>
          <p:spPr>
            <a:xfrm>
              <a:off x="23760" y="4673520"/>
              <a:ext cx="1009800" cy="22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Line 39"/>
          <p:cNvSpPr/>
          <p:nvPr/>
        </p:nvSpPr>
        <p:spPr>
          <a:xfrm>
            <a:off x="539640" y="3814920"/>
            <a:ext cx="0" cy="622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39"/>
          <p:cNvSpPr/>
          <p:nvPr/>
        </p:nvSpPr>
        <p:spPr>
          <a:xfrm flipV="1">
            <a:off x="7524720" y="3525840"/>
            <a:ext cx="0" cy="8128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7956720" y="3517920"/>
            <a:ext cx="0" cy="82080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39"/>
          <p:cNvSpPr/>
          <p:nvPr/>
        </p:nvSpPr>
        <p:spPr>
          <a:xfrm flipV="1">
            <a:off x="900000" y="3787560"/>
            <a:ext cx="0" cy="649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Box 28"/>
          <p:cNvSpPr/>
          <p:nvPr/>
        </p:nvSpPr>
        <p:spPr>
          <a:xfrm>
            <a:off x="6804000" y="645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3763"/>
                </a:solidFill>
                <a:latin typeface="Tahoma"/>
              </a:rPr>
              <a:t>電子採購系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簡介電子發票與紙發票在系統流程的不同之處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a6a6a6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5812-51D3-47F7-9D43-2E677DE484A3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簡介電子發票與紙發票在系統流程的不同之處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C37F-1AB8-460D-92DB-27643F27973B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rcRect l="16452" t="8307" r="17520" b="12216"/>
          <a:stretch/>
        </p:blipFill>
        <p:spPr>
          <a:xfrm>
            <a:off x="127080" y="0"/>
            <a:ext cx="8762760" cy="5621400"/>
          </a:xfrm>
          <a:prstGeom prst="rect">
            <a:avLst/>
          </a:prstGeom>
          <a:ln w="0">
            <a:noFill/>
          </a:ln>
        </p:spPr>
      </p:pic>
      <p:sp>
        <p:nvSpPr>
          <p:cNvPr id="381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B575-EB95-427C-96E6-1F15DF8EBF37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登入後的主頁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矩形 10"/>
          <p:cNvSpPr/>
          <p:nvPr/>
        </p:nvSpPr>
        <p:spPr>
          <a:xfrm>
            <a:off x="241200" y="2184480"/>
            <a:ext cx="1435320" cy="355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圓角矩形圖說文字 11"/>
          <p:cNvSpPr/>
          <p:nvPr/>
        </p:nvSpPr>
        <p:spPr>
          <a:xfrm>
            <a:off x="3059280" y="2997360"/>
            <a:ext cx="3671640" cy="1008000"/>
          </a:xfrm>
          <a:prstGeom prst="wedgeRoundRectCallout">
            <a:avLst>
              <a:gd name="adj1" fmla="val -83629"/>
              <a:gd name="adj2" fmla="val -10900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帳戶管理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附屬帳戶管理」以管理附屬帳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1" descr=""/>
          <p:cNvPicPr/>
          <p:nvPr/>
        </p:nvPicPr>
        <p:blipFill>
          <a:blip r:embed="rId1"/>
          <a:srcRect l="28089" t="86315" r="18145" b="6733"/>
          <a:stretch/>
        </p:blipFill>
        <p:spPr>
          <a:xfrm>
            <a:off x="1763640" y="5877000"/>
            <a:ext cx="7020000" cy="576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" descr=""/>
          <p:cNvPicPr/>
          <p:nvPr/>
        </p:nvPicPr>
        <p:blipFill>
          <a:blip r:embed="rId2"/>
          <a:srcRect l="16355" t="8307" r="17642" b="12969"/>
          <a:stretch/>
        </p:blipFill>
        <p:spPr>
          <a:xfrm>
            <a:off x="114480" y="0"/>
            <a:ext cx="8759520" cy="5567400"/>
          </a:xfrm>
          <a:prstGeom prst="rect">
            <a:avLst/>
          </a:prstGeom>
          <a:ln w="0">
            <a:noFill/>
          </a:ln>
        </p:spPr>
      </p:pic>
      <p:sp>
        <p:nvSpPr>
          <p:cNvPr id="387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83CA-0E35-4366-A51B-4ED25BB9DF24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附屬帳戶管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圓角矩形圖說文字 6"/>
          <p:cNvSpPr/>
          <p:nvPr/>
        </p:nvSpPr>
        <p:spPr>
          <a:xfrm>
            <a:off x="7380360" y="4869000"/>
            <a:ext cx="1582560" cy="792000"/>
          </a:xfrm>
          <a:prstGeom prst="wedgeRoundRectCallout">
            <a:avLst>
              <a:gd name="adj1" fmla="val 20504"/>
              <a:gd name="adj2" fmla="val 830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「儲存」 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矩形 7"/>
          <p:cNvSpPr/>
          <p:nvPr/>
        </p:nvSpPr>
        <p:spPr>
          <a:xfrm>
            <a:off x="7956720" y="5969160"/>
            <a:ext cx="780840" cy="484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圓角矩形圖說文字 8"/>
          <p:cNvSpPr/>
          <p:nvPr/>
        </p:nvSpPr>
        <p:spPr>
          <a:xfrm>
            <a:off x="684360" y="1052640"/>
            <a:ext cx="7632720" cy="1871640"/>
          </a:xfrm>
          <a:prstGeom prst="wedgeRoundRectCallout">
            <a:avLst>
              <a:gd name="adj1" fmla="val 7018"/>
              <a:gd name="adj2" fmla="val 8915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啟用了「查看電子發票」 ，則使用者可以搜索所有電子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啟用了「新增電子發票」 ，則使用者可以搜索所有採購訂單和新增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啟用了「接收電子發票通知」 ，則已成功提交電子發票或電子發票已被拒絕時，使用者將收到電子郵件確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矩形 9"/>
          <p:cNvSpPr/>
          <p:nvPr/>
        </p:nvSpPr>
        <p:spPr>
          <a:xfrm>
            <a:off x="3203640" y="3716280"/>
            <a:ext cx="216036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簡介電子發票與紙發票在系統流程的不同之處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a6a6a6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A4BC-30CA-4ED5-8251-2755BF6C4E5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17b"/>
                </a:solidFill>
                <a:latin typeface="Calibri"/>
              </a:rPr>
              <a:t>使用電子發票服務時</a:t>
            </a:r>
            <a:br>
              <a:rPr sz="3600"/>
            </a:br>
            <a:r>
              <a:rPr b="0" lang="zh-TW" sz="3600" spc="-1" strike="noStrike">
                <a:solidFill>
                  <a:srgbClr val="04617b"/>
                </a:solidFill>
                <a:latin typeface="Calibri"/>
              </a:rPr>
              <a:t>要注意的要點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設定附屬帳戶及電子發票相關權限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在提交電子發票前，與相關政府部門負責人溝通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定期網上查詢電子發票的狀況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如發票被拒絕，你將收到電郵通知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你雖然仍可以提交紙發票，但建議盡量使用電子發票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816C-D6C1-48AC-B5CD-E6A1BFC1B4DB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4617b"/>
                </a:solidFill>
                <a:latin typeface="新細明體"/>
                <a:ea typeface="新細明體"/>
              </a:rPr>
              <a:t>支</a:t>
            </a:r>
            <a:r>
              <a:rPr b="0" lang="zh-TW" sz="5200" spc="-1" strike="noStrike">
                <a:solidFill>
                  <a:srgbClr val="04617b"/>
                </a:solidFill>
                <a:latin typeface="新細明體"/>
                <a:ea typeface="新細明體"/>
              </a:rPr>
              <a:t>援熱線</a:t>
            </a: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電話號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  (852) 8107 0608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傳真號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 (852) 2645 8004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電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   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eppmgmtoff@ogcio.gov.h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工作時間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上午八時至晚上九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週一至週五，公眾假期除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9DE5-20EF-476A-9634-4D4EE28BB650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簡介電子發票與紙發票在系統流程的不同之處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2671-20DA-410A-AB94-985279396E72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文字方塊 3"/>
          <p:cNvSpPr/>
          <p:nvPr/>
        </p:nvSpPr>
        <p:spPr>
          <a:xfrm>
            <a:off x="4031640" y="3068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多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投影片編號版面配置區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69FA-C40C-48C3-BF92-E7927C2CB978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簡介電子發票與紙發票在系統流程的不同之處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a6a6a6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6CBB-5EB1-4301-9FF8-4C2952B3007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971640" y="549360"/>
            <a:ext cx="7273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背景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10920" y="126792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電子發票服務是電子採購系統的一個附加功能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目範圍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一階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網上表單渠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供應商將可透過網上表單提交電子發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將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底啓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二階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結構化信息渠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供應商的系統可以預先定義的格式經新的電子界面提交電子發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將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啓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2BCE-715A-4745-A65C-E8AF720DCC22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0" lang="zh-TW" sz="3200" spc="-1" strike="noStrike">
                <a:solidFill>
                  <a:srgbClr val="04617b"/>
                </a:solidFill>
                <a:latin typeface="Calibri"/>
              </a:rPr>
              <a:t>供應商通過網上表單渠道提交電子發票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05CA-ABC3-4ACD-9ADF-0596D94DFDB8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資料庫圖表 6" descr=""/>
          <p:cNvPicPr/>
          <p:nvPr/>
        </p:nvPicPr>
        <p:blipFill>
          <a:blip r:embed="rId1"/>
          <a:stretch/>
        </p:blipFill>
        <p:spPr>
          <a:xfrm>
            <a:off x="-12600" y="1682640"/>
            <a:ext cx="9169200" cy="4687920"/>
          </a:xfrm>
          <a:prstGeom prst="rect">
            <a:avLst/>
          </a:prstGeom>
          <a:ln w="0">
            <a:noFill/>
          </a:ln>
        </p:spPr>
      </p:pic>
      <p:sp>
        <p:nvSpPr>
          <p:cNvPr id="258" name="文字方塊 4"/>
          <p:cNvSpPr/>
          <p:nvPr/>
        </p:nvSpPr>
        <p:spPr>
          <a:xfrm>
            <a:off x="826920" y="595008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提交電子發票跟現有的電子報價提交類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rcRect l="7382" t="448" r="10335" b="5065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60" name="圓角矩形 18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電子採購網站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www.eprocurement.gov.h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矩形 20"/>
          <p:cNvSpPr/>
          <p:nvPr/>
        </p:nvSpPr>
        <p:spPr>
          <a:xfrm>
            <a:off x="395280" y="2924280"/>
            <a:ext cx="2592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圓角矩形圖說文字 19"/>
          <p:cNvSpPr/>
          <p:nvPr/>
        </p:nvSpPr>
        <p:spPr>
          <a:xfrm>
            <a:off x="1835280" y="2205000"/>
            <a:ext cx="1441440" cy="504720"/>
          </a:xfrm>
          <a:prstGeom prst="wedgeRoundRectCallout">
            <a:avLst>
              <a:gd name="adj1" fmla="val -35162"/>
              <a:gd name="adj2" fmla="val 8517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登入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投影片編號版面配置區 2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5F2B-F0B8-456F-95C6-07B3590F0D71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3" descr=""/>
          <p:cNvPicPr/>
          <p:nvPr/>
        </p:nvPicPr>
        <p:blipFill>
          <a:blip r:embed="rId1"/>
          <a:srcRect l="16294" t="9085" r="17511" b="4153"/>
          <a:stretch/>
        </p:blipFill>
        <p:spPr>
          <a:xfrm>
            <a:off x="179280" y="0"/>
            <a:ext cx="8785440" cy="6135840"/>
          </a:xfrm>
          <a:prstGeom prst="rect">
            <a:avLst/>
          </a:prstGeom>
          <a:ln w="0">
            <a:noFill/>
          </a:ln>
        </p:spPr>
      </p:pic>
      <p:sp>
        <p:nvSpPr>
          <p:cNvPr id="265" name="圓角矩形圖說文字 6"/>
          <p:cNvSpPr/>
          <p:nvPr/>
        </p:nvSpPr>
        <p:spPr>
          <a:xfrm>
            <a:off x="5364000" y="4221000"/>
            <a:ext cx="3097440" cy="1513080"/>
          </a:xfrm>
          <a:prstGeom prst="wedgeRoundRectCallout">
            <a:avLst>
              <a:gd name="adj1" fmla="val 19856"/>
              <a:gd name="adj2" fmla="val -6563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你已經登記使用數碼證書登入，請按「以數碼證書登入」進入數碼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書登入頁面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圓角矩形圖說文字 11"/>
          <p:cNvSpPr/>
          <p:nvPr/>
        </p:nvSpPr>
        <p:spPr>
          <a:xfrm>
            <a:off x="900000" y="3213000"/>
            <a:ext cx="2880000" cy="1008000"/>
          </a:xfrm>
          <a:prstGeom prst="wedgeRoundRectCallout">
            <a:avLst>
              <a:gd name="adj1" fmla="val 60675"/>
              <a:gd name="adj2" fmla="val -55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未能清楚看到驗證碼，請按「重新繪畫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圓角矩形 14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以用戶編號和密碼登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圓角矩形圖說文字 15"/>
          <p:cNvSpPr/>
          <p:nvPr/>
        </p:nvSpPr>
        <p:spPr>
          <a:xfrm>
            <a:off x="7236000" y="270828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登入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投影片編號版面配置區 1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72BB-0244-46E1-ACCE-32949CB375AA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4427640" y="2421000"/>
            <a:ext cx="16570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矩形 12"/>
          <p:cNvSpPr/>
          <p:nvPr/>
        </p:nvSpPr>
        <p:spPr>
          <a:xfrm>
            <a:off x="6845400" y="3421080"/>
            <a:ext cx="1155600" cy="40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矩形 17"/>
          <p:cNvSpPr/>
          <p:nvPr/>
        </p:nvSpPr>
        <p:spPr>
          <a:xfrm>
            <a:off x="8028000" y="3421080"/>
            <a:ext cx="798480" cy="40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圓角矩形圖說文字 8"/>
          <p:cNvSpPr/>
          <p:nvPr/>
        </p:nvSpPr>
        <p:spPr>
          <a:xfrm>
            <a:off x="4284720" y="1052640"/>
            <a:ext cx="1728720" cy="792000"/>
          </a:xfrm>
          <a:prstGeom prst="wedgeRoundRectCallout">
            <a:avLst>
              <a:gd name="adj1" fmla="val -63708"/>
              <a:gd name="adj2" fmla="val 4989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用戶編號和密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圓角矩形圖說文字 9"/>
          <p:cNvSpPr/>
          <p:nvPr/>
        </p:nvSpPr>
        <p:spPr>
          <a:xfrm>
            <a:off x="6156360" y="1484280"/>
            <a:ext cx="2016000" cy="647640"/>
          </a:xfrm>
          <a:prstGeom prst="wedgeRoundRectCallout">
            <a:avLst>
              <a:gd name="adj1" fmla="val -50055"/>
              <a:gd name="adj2" fmla="val 9757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驗證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8" descr=""/>
          <p:cNvPicPr/>
          <p:nvPr/>
        </p:nvPicPr>
        <p:blipFill>
          <a:blip r:embed="rId1"/>
          <a:srcRect l="16294" t="9080" r="17514" b="4672"/>
          <a:stretch/>
        </p:blipFill>
        <p:spPr>
          <a:xfrm>
            <a:off x="179280" y="0"/>
            <a:ext cx="8785440" cy="6099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D7C0-D8EC-4DDC-AF97-CF552B9F7136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登入後的主頁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矩形 6"/>
          <p:cNvSpPr/>
          <p:nvPr/>
        </p:nvSpPr>
        <p:spPr>
          <a:xfrm>
            <a:off x="324000" y="3573360"/>
            <a:ext cx="1439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圓角矩形圖說文字 7"/>
          <p:cNvSpPr/>
          <p:nvPr/>
        </p:nvSpPr>
        <p:spPr>
          <a:xfrm>
            <a:off x="2771640" y="4653000"/>
            <a:ext cx="3673440" cy="1008000"/>
          </a:xfrm>
          <a:prstGeom prst="wedgeRoundRectCallout">
            <a:avLst>
              <a:gd name="adj1" fmla="val -74291"/>
              <a:gd name="adj2" fmla="val -1077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採購訂單」 或「發票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新增發票」搜尋採購訂單及提交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24000" y="4259160"/>
            <a:ext cx="1439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4" descr=""/>
          <p:cNvPicPr/>
          <p:nvPr/>
        </p:nvPicPr>
        <p:blipFill>
          <a:blip r:embed="rId1"/>
          <a:srcRect l="16294" t="8307" r="17511" b="6562"/>
          <a:stretch/>
        </p:blipFill>
        <p:spPr>
          <a:xfrm>
            <a:off x="179280" y="260280"/>
            <a:ext cx="8785440" cy="6021360"/>
          </a:xfrm>
          <a:prstGeom prst="rect">
            <a:avLst/>
          </a:prstGeom>
          <a:ln w="0">
            <a:noFill/>
          </a:ln>
        </p:spPr>
      </p:pic>
      <p:sp>
        <p:nvSpPr>
          <p:cNvPr id="282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0C67-982D-4541-879E-AACE43215C47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圓角矩形圖說文字 11"/>
          <p:cNvSpPr/>
          <p:nvPr/>
        </p:nvSpPr>
        <p:spPr>
          <a:xfrm>
            <a:off x="4572000" y="3645000"/>
            <a:ext cx="2087640" cy="50328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顯示搜尋結果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圓角矩形圖說文字 7"/>
          <p:cNvSpPr/>
          <p:nvPr/>
        </p:nvSpPr>
        <p:spPr>
          <a:xfrm>
            <a:off x="4859280" y="1628640"/>
            <a:ext cx="2232000" cy="648000"/>
          </a:xfrm>
          <a:prstGeom prst="wedgeRoundRectCallout">
            <a:avLst>
              <a:gd name="adj1" fmla="val -21657"/>
              <a:gd name="adj2" fmla="val 8207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搜尋條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圓角矩形圖說文字 8"/>
          <p:cNvSpPr/>
          <p:nvPr/>
        </p:nvSpPr>
        <p:spPr>
          <a:xfrm>
            <a:off x="7236000" y="325908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搜尋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圓角矩形圖說文字 13"/>
          <p:cNvSpPr/>
          <p:nvPr/>
        </p:nvSpPr>
        <p:spPr>
          <a:xfrm>
            <a:off x="4788000" y="5707080"/>
            <a:ext cx="1942920" cy="1081080"/>
          </a:xfrm>
          <a:prstGeom prst="wedgeRoundRectCallout">
            <a:avLst>
              <a:gd name="adj1" fmla="val 106287"/>
              <a:gd name="adj2" fmla="val -5438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新增發票」提交新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矩形 16"/>
          <p:cNvSpPr/>
          <p:nvPr/>
        </p:nvSpPr>
        <p:spPr>
          <a:xfrm>
            <a:off x="7956720" y="3978360"/>
            <a:ext cx="806400" cy="411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矩形 17"/>
          <p:cNvSpPr/>
          <p:nvPr/>
        </p:nvSpPr>
        <p:spPr>
          <a:xfrm>
            <a:off x="7620120" y="5367240"/>
            <a:ext cx="1149120" cy="25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圓角矩形 18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1 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搜尋採購訂單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3:28:34Z</dcterms:created>
  <dc:creator>David Lam</dc:creator>
  <dc:description/>
  <dc:language>en-US</dc:language>
  <cp:lastModifiedBy>Ken TY HO</cp:lastModifiedBy>
  <dcterms:modified xsi:type="dcterms:W3CDTF">2013-07-11T06:36:25Z</dcterms:modified>
  <cp:revision>575</cp:revision>
  <dc:subject/>
  <dc:title>e-Procurement Consultancy Study</dc:title>
</cp:coreProperties>
</file>