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jpeg" ContentType="image/jpeg"/>
  <Override PartName="/ppt/media/image25.wmf" ContentType="image/x-wmf"/>
  <Override PartName="/ppt/media/image1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71CB-8605-4AB9-9192-AD9E4B23819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5662-C4AC-4179-A2FC-46D0565F5D42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ecure File Transfer Protocol(SFTP) server is suggested to be located inside the DMZ to receive structured message files from supplier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76B5-1298-425D-B7A1-36E774507FFC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44C7-3CB8-4675-9CE7-5C9BB5BDEA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2FB6-3343-4C32-9767-3379790633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B887-AA02-4A83-8F0F-A4EA69B6EB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C77B-106A-4494-AC64-DEDC9ED040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ADD7-1CE4-482B-A692-DB5A0C52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A00-55CF-4E21-A215-0DA4EE7A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36E-AB84-495A-B07F-5DF8850D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3A3-021E-4396-9E64-E168A86A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9E8C-116E-45BD-82A8-67C3425B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809C-D8F6-41F8-AD83-83EBA0C5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F22D-9F51-460A-9E5C-E4907B52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86BD-41FE-4416-BBBC-31AE88E4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C95E-8DD8-4F6D-95E8-74CC4697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9767-B0C5-4967-9EF3-ED61343E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910F-5419-4318-9F1F-BAA21BEB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FE8-67DF-427C-9785-4B2A5EDA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2753-2BCF-440F-9DF0-A5A0A1FA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7915-A112-4C0C-ABEE-2CD32A1F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A7CE-E1A4-4E87-BC1B-883F6D87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8358-C08B-4D69-A445-9B1A1098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3B22-C42B-4872-9322-F6504FC5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E5803-CA4F-4BF9-812D-50967387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C561F-FB67-4DF4-B9CA-B1622D8B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ABEFA-2455-4778-B489-67E71233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5B9C7-209B-4A3C-B642-4A22894C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67839-28D4-45E0-B5F7-D74F3EF3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7F80-BD04-4BAB-9A52-AE89FB35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AA983-BF45-4A02-AA2E-5EB2BC60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38B8F-A1FB-4E88-83FC-AC97F401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3AE40-3E60-418F-B6AE-7BA06F4E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A9C46-B5B4-4B6E-B1E5-AB392D9D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7D9F7-133C-4E1C-ABC0-23FDF300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AD2B2-BE98-4CD2-9DE3-67BFAD96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3FAFA-F3E3-4DB8-BB40-6FB442C1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E169F-F73C-4A46-A200-3F8B6A5D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755E9-095D-4DA5-9D00-1F16B811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34F76-E15D-4A69-B1B2-AB56346A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4FC-A70A-4CAA-9A3D-FBB631EF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BA9A9-FFF0-4C3E-93E8-84AC7292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099DC-3DCD-43D6-AE4F-5C97A581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22A65-D4AB-4DE2-B253-A0D762BA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B5987-550B-4A04-A63B-BDA0BCAE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01D8F-2BE6-481D-8980-715456C8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BCEC7-7581-4437-8C79-33B4B544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F0C63-263C-4007-8BF9-7C576518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DBF6C-0044-4A12-B1B1-3F25D297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9FDC8-A4F4-4873-BCC9-0B0DEECA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EAEC8-2EE0-4B37-A2F1-928F5BF2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1ABB-3176-4F0D-9101-97CB7243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DC0B8-F8F6-40E1-95C6-93B57080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62833-D5D0-4939-B68E-9D392D08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839C5-EA14-4D1F-A8D8-0738E4C1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DD792-5539-49E9-8A37-BAAF14B9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B6286-F808-469F-A96A-11A1A0FE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17373-29AE-4FA8-9216-8BB58EBC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FC648-F9BB-4BB9-8050-A62BDFCF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C312A-98BA-4C92-9FEB-E82B9F04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4E397-D022-4C32-866F-99F34648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FCF7F-E829-40B6-9C20-E97EBCB2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82D-8D7B-447A-8813-509F498B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6B6A3-2414-4585-8141-DC827C5C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613-BE3F-4158-9A6F-B729D3B5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320-8991-4A66-A7CC-EA9EB1F9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1B2-3721-4B8B-8F41-40D7CDA9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手繪多邊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ED60-DF24-4F70-B18E-4E26701E851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手繪多邊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手繪多邊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8D01-AD9F-4B07-BD00-6C2BE42B84E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手繪多邊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手繪多邊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99B9-1350-4F61-B7F2-4B8958E8F5F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671E-FF1B-4E68-8AC3-D8E8EC1C0EF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剪去並圓角化單一角落矩形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手繪多邊形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手繪多邊形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062B-F815-4B0C-8BF2-C6561B02C11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eppmgmtoff@ogcio.gov.hk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328680" y="1908000"/>
            <a:ext cx="8461440" cy="24559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10920" y="4797000"/>
            <a:ext cx="78548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013</a:t>
            </a:r>
            <a:r>
              <a:rPr b="1" lang="zh-TW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</a:t>
            </a:r>
            <a:r>
              <a:rPr b="1" lang="zh-TW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月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0</a:t>
            </a:r>
            <a:r>
              <a:rPr b="1" lang="zh-TW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及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7</a:t>
            </a:r>
            <a:r>
              <a:rPr b="1" lang="zh-TW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日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3F93-B261-45B1-9C18-BAE4856081E4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8" descr=""/>
          <p:cNvPicPr/>
          <p:nvPr/>
        </p:nvPicPr>
        <p:blipFill>
          <a:blip r:embed="rId1"/>
          <a:srcRect l="16294" t="8307" r="18054" b="5545"/>
          <a:stretch/>
        </p:blipFill>
        <p:spPr>
          <a:xfrm>
            <a:off x="179280" y="216000"/>
            <a:ext cx="8713800" cy="6092640"/>
          </a:xfrm>
          <a:prstGeom prst="rect">
            <a:avLst/>
          </a:prstGeom>
          <a:ln w="0">
            <a:noFill/>
          </a:ln>
        </p:spPr>
      </p:pic>
      <p:sp>
        <p:nvSpPr>
          <p:cNvPr id="291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5F69-C9ED-4ABE-BCC2-EC857E0F9DCA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圓角矩形圖說文字 5"/>
          <p:cNvSpPr/>
          <p:nvPr/>
        </p:nvSpPr>
        <p:spPr>
          <a:xfrm>
            <a:off x="3203640" y="1341360"/>
            <a:ext cx="2448000" cy="1152720"/>
          </a:xfrm>
          <a:prstGeom prst="wedgeRoundRectCallout">
            <a:avLst>
              <a:gd name="adj1" fmla="val -20879"/>
              <a:gd name="adj2" fmla="val 63888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沒有填入「發票號碼」，系統將自動產生一個唯一的號碼作為「發票號碼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圓角矩形圖說文字 6"/>
          <p:cNvSpPr/>
          <p:nvPr/>
        </p:nvSpPr>
        <p:spPr>
          <a:xfrm>
            <a:off x="6659640" y="2781360"/>
            <a:ext cx="1800000" cy="718920"/>
          </a:xfrm>
          <a:prstGeom prst="wedgeRoundRectCallout">
            <a:avLst>
              <a:gd name="adj1" fmla="val -91347"/>
              <a:gd name="adj2" fmla="val 43384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填入發票資料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圓角矩形 7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步驟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2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–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填寫發票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7" descr=""/>
          <p:cNvPicPr/>
          <p:nvPr/>
        </p:nvPicPr>
        <p:blipFill>
          <a:blip r:embed="rId1"/>
          <a:srcRect l="16704" t="14853" r="17578" b="12008"/>
          <a:stretch/>
        </p:blipFill>
        <p:spPr>
          <a:xfrm>
            <a:off x="468360" y="1989000"/>
            <a:ext cx="8207280" cy="4869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6" descr=""/>
          <p:cNvPicPr/>
          <p:nvPr/>
        </p:nvPicPr>
        <p:blipFill>
          <a:blip r:embed="rId2"/>
          <a:srcRect l="16695" t="23881" r="17586" b="45457"/>
          <a:stretch/>
        </p:blipFill>
        <p:spPr>
          <a:xfrm>
            <a:off x="468360" y="0"/>
            <a:ext cx="8207280" cy="2041560"/>
          </a:xfrm>
          <a:prstGeom prst="rect">
            <a:avLst/>
          </a:prstGeom>
          <a:ln w="0">
            <a:noFill/>
          </a:ln>
        </p:spPr>
      </p:pic>
      <p:sp>
        <p:nvSpPr>
          <p:cNvPr id="297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3849-9EA7-4E82-91CB-4090AF3C2BA6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圓角矩形 4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步驟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2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–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填寫發票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圓角矩形圖說文字 5"/>
          <p:cNvSpPr/>
          <p:nvPr/>
        </p:nvSpPr>
        <p:spPr>
          <a:xfrm>
            <a:off x="34920" y="115920"/>
            <a:ext cx="1800360" cy="865080"/>
          </a:xfrm>
          <a:prstGeom prst="wedgeRoundRectCallout">
            <a:avLst>
              <a:gd name="adj1" fmla="val 67388"/>
              <a:gd name="adj2" fmla="val 23986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填入發票項目資料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圓角矩形圖說文字 7"/>
          <p:cNvSpPr/>
          <p:nvPr/>
        </p:nvSpPr>
        <p:spPr>
          <a:xfrm>
            <a:off x="0" y="3573360"/>
            <a:ext cx="1800360" cy="1081080"/>
          </a:xfrm>
          <a:prstGeom prst="wedgeRoundRectCallout">
            <a:avLst>
              <a:gd name="adj1" fmla="val 67388"/>
              <a:gd name="adj2" fmla="val 21337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填入備註，例如提早付款折扣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圓角矩形圖說文字 8"/>
          <p:cNvSpPr/>
          <p:nvPr/>
        </p:nvSpPr>
        <p:spPr>
          <a:xfrm>
            <a:off x="0" y="2421000"/>
            <a:ext cx="1800360" cy="865080"/>
          </a:xfrm>
          <a:prstGeom prst="wedgeRoundRectCallout">
            <a:avLst>
              <a:gd name="adj1" fmla="val 67388"/>
              <a:gd name="adj2" fmla="val 23986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有需要，　可提交附件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圓角矩形圖說文字 10"/>
          <p:cNvSpPr/>
          <p:nvPr/>
        </p:nvSpPr>
        <p:spPr>
          <a:xfrm>
            <a:off x="0" y="4896000"/>
            <a:ext cx="1835280" cy="1989000"/>
          </a:xfrm>
          <a:prstGeom prst="wedgeRoundRectCallout">
            <a:avLst>
              <a:gd name="adj1" fmla="val 63212"/>
              <a:gd name="adj2" fmla="val -16486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需讀取儲存在你的電腦內的草稿，可按「瀏覽」選擇草稿檔案，然後按「讀取草稿」 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圓角矩形圖說文字 9"/>
          <p:cNvSpPr/>
          <p:nvPr/>
        </p:nvSpPr>
        <p:spPr>
          <a:xfrm>
            <a:off x="4211640" y="3860640"/>
            <a:ext cx="2808360" cy="1079640"/>
          </a:xfrm>
          <a:prstGeom prst="wedgeRoundRectCallout">
            <a:avLst>
              <a:gd name="adj1" fmla="val 22814"/>
              <a:gd name="adj2" fmla="val 6924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需暫時停止提交，可按「儲存為草稿」把草稿儲存到你的電腦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矩形 12"/>
          <p:cNvSpPr/>
          <p:nvPr/>
        </p:nvSpPr>
        <p:spPr>
          <a:xfrm>
            <a:off x="7812000" y="5181480"/>
            <a:ext cx="720720" cy="393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矩形 13"/>
          <p:cNvSpPr/>
          <p:nvPr/>
        </p:nvSpPr>
        <p:spPr>
          <a:xfrm>
            <a:off x="5796000" y="5168880"/>
            <a:ext cx="1297080" cy="419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矩形 14"/>
          <p:cNvSpPr/>
          <p:nvPr/>
        </p:nvSpPr>
        <p:spPr>
          <a:xfrm>
            <a:off x="5435640" y="6093000"/>
            <a:ext cx="936720" cy="307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矩形 15"/>
          <p:cNvSpPr/>
          <p:nvPr/>
        </p:nvSpPr>
        <p:spPr>
          <a:xfrm>
            <a:off x="7308720" y="6380280"/>
            <a:ext cx="1150920" cy="361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圓角矩形圖說文字 11"/>
          <p:cNvSpPr/>
          <p:nvPr/>
        </p:nvSpPr>
        <p:spPr>
          <a:xfrm>
            <a:off x="7236000" y="3573360"/>
            <a:ext cx="1692000" cy="1079640"/>
          </a:xfrm>
          <a:prstGeom prst="wedgeRoundRectCallout">
            <a:avLst>
              <a:gd name="adj1" fmla="val 8958"/>
              <a:gd name="adj2" fmla="val 91597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繼續」提交發票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8000">
    <p:wipe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5" descr=""/>
          <p:cNvPicPr/>
          <p:nvPr/>
        </p:nvPicPr>
        <p:blipFill>
          <a:blip r:embed="rId1"/>
          <a:srcRect l="16471" t="8307" r="17785" b="4148"/>
          <a:stretch/>
        </p:blipFill>
        <p:spPr>
          <a:xfrm>
            <a:off x="203040" y="0"/>
            <a:ext cx="8724960" cy="6191280"/>
          </a:xfrm>
          <a:prstGeom prst="rect">
            <a:avLst/>
          </a:prstGeom>
          <a:ln w="0">
            <a:noFill/>
          </a:ln>
        </p:spPr>
      </p:pic>
      <p:sp>
        <p:nvSpPr>
          <p:cNvPr id="310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8CBD-D730-4DC2-BE03-193CCFDA21D2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步驟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–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確認發票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2" name="圓角矩形 4"/>
          <p:cNvGrpSpPr/>
          <p:nvPr/>
        </p:nvGrpSpPr>
        <p:grpSpPr>
          <a:xfrm>
            <a:off x="6022800" y="1017720"/>
            <a:ext cx="2926080" cy="866520"/>
            <a:chOff x="6022800" y="1017720"/>
            <a:chExt cx="2926080" cy="866520"/>
          </a:xfrm>
        </p:grpSpPr>
        <p:pic>
          <p:nvPicPr>
            <p:cNvPr id="313" name="圓角矩形 4" descr=""/>
            <p:cNvPicPr/>
            <p:nvPr/>
          </p:nvPicPr>
          <p:blipFill>
            <a:blip r:embed="rId2"/>
            <a:stretch/>
          </p:blipFill>
          <p:spPr>
            <a:xfrm>
              <a:off x="6022800" y="1017720"/>
              <a:ext cx="2926080" cy="86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191280" y="1087560"/>
              <a:ext cx="259380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檢查發票內容是否正確。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7" descr=""/>
          <p:cNvPicPr/>
          <p:nvPr/>
        </p:nvPicPr>
        <p:blipFill>
          <a:blip r:embed="rId1"/>
          <a:srcRect l="16568" t="8307" r="17691" b="4330"/>
          <a:stretch/>
        </p:blipFill>
        <p:spPr>
          <a:xfrm>
            <a:off x="216000" y="0"/>
            <a:ext cx="8724960" cy="6178680"/>
          </a:xfrm>
          <a:prstGeom prst="rect">
            <a:avLst/>
          </a:prstGeom>
          <a:ln w="0">
            <a:noFill/>
          </a:ln>
        </p:spPr>
      </p:pic>
      <p:sp>
        <p:nvSpPr>
          <p:cNvPr id="316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2D03-198B-409D-9F66-57D6C2D2B9FD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步驟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–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確認發票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圓角矩形圖說文字 6"/>
          <p:cNvSpPr/>
          <p:nvPr/>
        </p:nvSpPr>
        <p:spPr>
          <a:xfrm>
            <a:off x="3419640" y="2133720"/>
            <a:ext cx="2447640" cy="1008000"/>
          </a:xfrm>
          <a:prstGeom prst="wedgeRoundRectCallout">
            <a:avLst>
              <a:gd name="adj1" fmla="val -39375"/>
              <a:gd name="adj2" fmla="val 8250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選擇提交發票的認証方式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矩形 10"/>
          <p:cNvSpPr/>
          <p:nvPr/>
        </p:nvSpPr>
        <p:spPr>
          <a:xfrm>
            <a:off x="1692360" y="3573360"/>
            <a:ext cx="266364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5000">
    <p:wipe dir="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3" descr=""/>
          <p:cNvPicPr/>
          <p:nvPr/>
        </p:nvPicPr>
        <p:blipFill>
          <a:blip r:embed="rId1"/>
          <a:srcRect l="16471" t="8307" r="17785" b="4885"/>
          <a:stretch/>
        </p:blipFill>
        <p:spPr>
          <a:xfrm>
            <a:off x="203040" y="0"/>
            <a:ext cx="8724960" cy="6140520"/>
          </a:xfrm>
          <a:prstGeom prst="rect">
            <a:avLst/>
          </a:prstGeom>
          <a:ln w="0">
            <a:noFill/>
          </a:ln>
        </p:spPr>
      </p:pic>
      <p:sp>
        <p:nvSpPr>
          <p:cNvPr id="321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03B4-8317-4DA6-98C4-3769AF85086D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步驟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–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確認發票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以數碼証書認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圓角矩形圖說文字 7"/>
          <p:cNvSpPr/>
          <p:nvPr/>
        </p:nvSpPr>
        <p:spPr>
          <a:xfrm>
            <a:off x="4500720" y="3141720"/>
            <a:ext cx="2592360" cy="1150920"/>
          </a:xfrm>
          <a:prstGeom prst="wedgeRoundRectCallout">
            <a:avLst>
              <a:gd name="adj1" fmla="val -69541"/>
              <a:gd name="adj2" fmla="val 4777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選擇數碼證書種類及輸入香港身份證號碼或公司註冊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公司登記證編號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矩形 11"/>
          <p:cNvSpPr/>
          <p:nvPr/>
        </p:nvSpPr>
        <p:spPr>
          <a:xfrm>
            <a:off x="8028000" y="5661000"/>
            <a:ext cx="792000" cy="422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圓角矩形圖說文字 12"/>
          <p:cNvSpPr/>
          <p:nvPr/>
        </p:nvSpPr>
        <p:spPr>
          <a:xfrm>
            <a:off x="2340000" y="2205000"/>
            <a:ext cx="2448000" cy="1008000"/>
          </a:xfrm>
          <a:prstGeom prst="wedgeRoundRectCallout">
            <a:avLst>
              <a:gd name="adj1" fmla="val -39375"/>
              <a:gd name="adj2" fmla="val 8250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選擇方法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 (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數碼証書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圓角矩形圖說文字 8"/>
          <p:cNvSpPr/>
          <p:nvPr/>
        </p:nvSpPr>
        <p:spPr>
          <a:xfrm>
            <a:off x="5796000" y="4365720"/>
            <a:ext cx="1800360" cy="647640"/>
          </a:xfrm>
          <a:prstGeom prst="wedgeRoundRectCallout">
            <a:avLst>
              <a:gd name="adj1" fmla="val -63055"/>
              <a:gd name="adj2" fmla="val 33324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選擇數碼證書檔案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圓角矩形圖說文字 9"/>
          <p:cNvSpPr/>
          <p:nvPr/>
        </p:nvSpPr>
        <p:spPr>
          <a:xfrm>
            <a:off x="2700360" y="5589720"/>
            <a:ext cx="2374920" cy="649080"/>
          </a:xfrm>
          <a:prstGeom prst="wedgeRoundRectCallout">
            <a:avLst>
              <a:gd name="adj1" fmla="val 26930"/>
              <a:gd name="adj2" fmla="val -74277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輸入數碼證書密碼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圓角矩形圖說文字 10"/>
          <p:cNvSpPr/>
          <p:nvPr/>
        </p:nvSpPr>
        <p:spPr>
          <a:xfrm>
            <a:off x="7667640" y="4581360"/>
            <a:ext cx="1297080" cy="79236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確認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4" descr=""/>
          <p:cNvPicPr/>
          <p:nvPr/>
        </p:nvPicPr>
        <p:blipFill>
          <a:blip r:embed="rId1"/>
          <a:srcRect l="27594" t="8462" r="17857" b="7507"/>
          <a:stretch/>
        </p:blipFill>
        <p:spPr>
          <a:xfrm>
            <a:off x="1258920" y="914400"/>
            <a:ext cx="7240680" cy="5943600"/>
          </a:xfrm>
          <a:prstGeom prst="rect">
            <a:avLst/>
          </a:prstGeom>
          <a:ln w="0">
            <a:noFill/>
          </a:ln>
        </p:spPr>
      </p:pic>
      <p:sp>
        <p:nvSpPr>
          <p:cNvPr id="330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C4A5-1DEB-4D5B-BCB6-0ADB828F2205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步驟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–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確認發票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以邀請碼認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圓角矩形圖說文字 7"/>
          <p:cNvSpPr/>
          <p:nvPr/>
        </p:nvSpPr>
        <p:spPr>
          <a:xfrm>
            <a:off x="6156360" y="4221000"/>
            <a:ext cx="2592360" cy="1008360"/>
          </a:xfrm>
          <a:prstGeom prst="wedgeRoundRectCallout">
            <a:avLst>
              <a:gd name="adj1" fmla="val -80606"/>
              <a:gd name="adj2" fmla="val 36611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查看你的電郵帳戶以收取邀請碼，然後輸入邀請碼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圓角矩形圖說文字 9"/>
          <p:cNvSpPr/>
          <p:nvPr/>
        </p:nvSpPr>
        <p:spPr>
          <a:xfrm>
            <a:off x="179280" y="5732640"/>
            <a:ext cx="2880000" cy="936360"/>
          </a:xfrm>
          <a:prstGeom prst="wedgeRoundRectCallout">
            <a:avLst>
              <a:gd name="adj1" fmla="val 81055"/>
              <a:gd name="adj2" fmla="val -3037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按此」以索取邀請碼，邀請碼會發送到您註冊的電子郵件帳戶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矩形 11"/>
          <p:cNvSpPr/>
          <p:nvPr/>
        </p:nvSpPr>
        <p:spPr>
          <a:xfrm>
            <a:off x="7583400" y="6362640"/>
            <a:ext cx="824040" cy="425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圓角矩形圖說文字 13"/>
          <p:cNvSpPr/>
          <p:nvPr/>
        </p:nvSpPr>
        <p:spPr>
          <a:xfrm>
            <a:off x="4500720" y="3500280"/>
            <a:ext cx="1511280" cy="865440"/>
          </a:xfrm>
          <a:prstGeom prst="wedgeRoundRectCallout">
            <a:avLst>
              <a:gd name="adj1" fmla="val -102259"/>
              <a:gd name="adj2" fmla="val 83972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選擇方法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邀請碼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15" descr=""/>
          <p:cNvPicPr/>
          <p:nvPr/>
        </p:nvPicPr>
        <p:blipFill>
          <a:blip r:embed="rId2"/>
          <a:srcRect l="12966" t="29322" r="54604" b="9942"/>
          <a:stretch/>
        </p:blipFill>
        <p:spPr>
          <a:xfrm>
            <a:off x="0" y="0"/>
            <a:ext cx="4219560" cy="4211640"/>
          </a:xfrm>
          <a:prstGeom prst="rect">
            <a:avLst/>
          </a:prstGeom>
          <a:ln w="0">
            <a:noFill/>
          </a:ln>
        </p:spPr>
      </p:pic>
      <p:sp>
        <p:nvSpPr>
          <p:cNvPr id="337" name="矩形 17"/>
          <p:cNvSpPr/>
          <p:nvPr/>
        </p:nvSpPr>
        <p:spPr>
          <a:xfrm>
            <a:off x="179280" y="1628640"/>
            <a:ext cx="2570400" cy="648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圓角矩形圖說文字 8"/>
          <p:cNvSpPr/>
          <p:nvPr/>
        </p:nvSpPr>
        <p:spPr>
          <a:xfrm>
            <a:off x="4572000" y="5877000"/>
            <a:ext cx="2233440" cy="649080"/>
          </a:xfrm>
          <a:prstGeom prst="wedgeRoundRectCallout">
            <a:avLst>
              <a:gd name="adj1" fmla="val -41472"/>
              <a:gd name="adj2" fmla="val -91879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輸入你的登入密碼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圓角矩形圖說文字 16"/>
          <p:cNvSpPr/>
          <p:nvPr/>
        </p:nvSpPr>
        <p:spPr>
          <a:xfrm>
            <a:off x="6804000" y="5516640"/>
            <a:ext cx="1871640" cy="57456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確認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"/>
          <p:cNvPicPr/>
          <p:nvPr/>
        </p:nvPicPr>
        <p:blipFill>
          <a:blip r:embed="rId1"/>
          <a:srcRect l="16452" t="8234" r="17805" b="4314"/>
          <a:stretch/>
        </p:blipFill>
        <p:spPr>
          <a:xfrm>
            <a:off x="127080" y="260280"/>
            <a:ext cx="8724960" cy="6186600"/>
          </a:xfrm>
          <a:prstGeom prst="rect">
            <a:avLst/>
          </a:prstGeom>
          <a:ln w="0">
            <a:noFill/>
          </a:ln>
        </p:spPr>
      </p:pic>
      <p:sp>
        <p:nvSpPr>
          <p:cNvPr id="341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2B61-01E4-4419-8C02-BC6093247E1F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圓角矩形 5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成功提交的確認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10" descr=""/>
          <p:cNvPicPr/>
          <p:nvPr/>
        </p:nvPicPr>
        <p:blipFill>
          <a:blip r:embed="rId1"/>
          <a:srcRect l="16452" t="8826" r="17904" b="5789"/>
          <a:stretch/>
        </p:blipFill>
        <p:spPr>
          <a:xfrm>
            <a:off x="127080" y="0"/>
            <a:ext cx="8712000" cy="6039000"/>
          </a:xfrm>
          <a:prstGeom prst="rect">
            <a:avLst/>
          </a:prstGeom>
          <a:ln w="0">
            <a:noFill/>
          </a:ln>
        </p:spPr>
      </p:pic>
      <p:sp>
        <p:nvSpPr>
          <p:cNvPr id="344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3B6E-4770-4DA1-8ED9-4D0E3E740B6F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圓角矩形 5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成功提交的確認 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矩形 6"/>
          <p:cNvSpPr/>
          <p:nvPr/>
        </p:nvSpPr>
        <p:spPr>
          <a:xfrm>
            <a:off x="7956720" y="5589720"/>
            <a:ext cx="792000" cy="40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矩形 7"/>
          <p:cNvSpPr/>
          <p:nvPr/>
        </p:nvSpPr>
        <p:spPr>
          <a:xfrm>
            <a:off x="7061040" y="5589720"/>
            <a:ext cx="750960" cy="40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8" name="圓角矩形 9"/>
          <p:cNvGrpSpPr/>
          <p:nvPr/>
        </p:nvGrpSpPr>
        <p:grpSpPr>
          <a:xfrm>
            <a:off x="3560760" y="1158840"/>
            <a:ext cx="4613400" cy="1590840"/>
            <a:chOff x="3560760" y="1158840"/>
            <a:chExt cx="4613400" cy="1590840"/>
          </a:xfrm>
        </p:grpSpPr>
        <p:pic>
          <p:nvPicPr>
            <p:cNvPr id="349" name="圓角矩形 9" descr=""/>
            <p:cNvPicPr/>
            <p:nvPr/>
          </p:nvPicPr>
          <p:blipFill>
            <a:blip r:embed="rId2"/>
            <a:stretch/>
          </p:blipFill>
          <p:spPr>
            <a:xfrm>
              <a:off x="3560760" y="1158840"/>
              <a:ext cx="461340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3706920" y="1266840"/>
              <a:ext cx="432252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onstantia"/>
                </a:rPr>
                <a:t>提交電子發票的帳戶以及啟用了「接收電子發票通知」的附屬帳戶，均會接收到電子郵件以資確認。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1" name="圓角矩形圖說文字 4"/>
          <p:cNvSpPr/>
          <p:nvPr/>
        </p:nvSpPr>
        <p:spPr>
          <a:xfrm>
            <a:off x="7380360" y="4508640"/>
            <a:ext cx="1728720" cy="792000"/>
          </a:xfrm>
          <a:prstGeom prst="wedgeRoundRectCallout">
            <a:avLst>
              <a:gd name="adj1" fmla="val 11342"/>
              <a:gd name="adj2" fmla="val 74638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「列印」以列印一份副本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圓角矩形圖說文字 8"/>
          <p:cNvSpPr/>
          <p:nvPr/>
        </p:nvSpPr>
        <p:spPr>
          <a:xfrm>
            <a:off x="5435640" y="4508640"/>
            <a:ext cx="1728720" cy="792000"/>
          </a:xfrm>
          <a:prstGeom prst="wedgeRoundRectCallout">
            <a:avLst>
              <a:gd name="adj1" fmla="val 60560"/>
              <a:gd name="adj2" fmla="val 8105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儲存」以保存一份副本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2000">
    <p:wipe dir="u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5C57-FCAB-4F2D-B4C0-2358A82A4E08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1159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- </a:t>
            </a:r>
            <a:r>
              <a:rPr b="0" lang="zh-TW" sz="3200" spc="-1" strike="noStrike">
                <a:solidFill>
                  <a:srgbClr val="04617b"/>
                </a:solidFill>
                <a:latin typeface="Calibri"/>
              </a:rPr>
              <a:t>供應商通過結構化信息渠道提交電子發票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5" name="Picture 5" descr="C:\Users\Eric Po\AppData\Local\Microsoft\Windows\Temporary Internet Files\Content.IE5\DFCGSZB4\MP900443451[1].jpg"/>
          <p:cNvPicPr/>
          <p:nvPr/>
        </p:nvPicPr>
        <p:blipFill>
          <a:blip r:embed="rId1"/>
          <a:srcRect l="0" t="0" r="4452" b="0"/>
          <a:stretch/>
        </p:blipFill>
        <p:spPr>
          <a:xfrm>
            <a:off x="28440" y="1484280"/>
            <a:ext cx="2133720" cy="223200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43"/>
          <p:cNvGrpSpPr/>
          <p:nvPr/>
        </p:nvGrpSpPr>
        <p:grpSpPr>
          <a:xfrm>
            <a:off x="1979640" y="5445000"/>
            <a:ext cx="4581000" cy="825480"/>
            <a:chOff x="1979640" y="5445000"/>
            <a:chExt cx="4581000" cy="825480"/>
          </a:xfrm>
        </p:grpSpPr>
        <p:sp>
          <p:nvSpPr>
            <p:cNvPr id="357" name="Rectangle 29"/>
            <p:cNvSpPr/>
            <p:nvPr/>
          </p:nvSpPr>
          <p:spPr>
            <a:xfrm>
              <a:off x="1985400" y="5445000"/>
              <a:ext cx="4575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. </a:t>
              </a:r>
              <a:r>
                <a:rPr b="0" lang="zh-TW" sz="2400" spc="-1" strike="noStrike">
                  <a:solidFill>
                    <a:srgbClr val="000000"/>
                  </a:solidFill>
                  <a:latin typeface="Tahoma"/>
                </a:rPr>
                <a:t>確認通知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zh-TW" sz="2400" spc="-1" strike="noStrike">
                  <a:solidFill>
                    <a:srgbClr val="000000"/>
                  </a:solidFill>
                  <a:latin typeface="Tahoma"/>
                </a:rPr>
                <a:t>接受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r>
                <a:rPr b="0" lang="zh-TW" sz="2400" spc="-1" strike="noStrike">
                  <a:solidFill>
                    <a:srgbClr val="000000"/>
                  </a:solidFill>
                  <a:latin typeface="Tahoma"/>
                </a:rPr>
                <a:t>被拒絕記錄的數目；拒絕的理由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Line 30"/>
            <p:cNvSpPr/>
            <p:nvPr/>
          </p:nvSpPr>
          <p:spPr>
            <a:xfrm>
              <a:off x="1979640" y="5897520"/>
              <a:ext cx="4575240" cy="0"/>
            </a:xfrm>
            <a:prstGeom prst="line">
              <a:avLst/>
            </a:prstGeom>
            <a:ln w="31680">
              <a:solidFill>
                <a:srgbClr val="0070c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9" name="Rectangle 33"/>
          <p:cNvSpPr/>
          <p:nvPr/>
        </p:nvSpPr>
        <p:spPr>
          <a:xfrm>
            <a:off x="2065320" y="4762440"/>
            <a:ext cx="4883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0" name="Group 44"/>
          <p:cNvGrpSpPr/>
          <p:nvPr/>
        </p:nvGrpSpPr>
        <p:grpSpPr>
          <a:xfrm>
            <a:off x="1973160" y="4365720"/>
            <a:ext cx="4614840" cy="459720"/>
            <a:chOff x="1973160" y="4365720"/>
            <a:chExt cx="4614840" cy="459720"/>
          </a:xfrm>
        </p:grpSpPr>
        <p:sp>
          <p:nvSpPr>
            <p:cNvPr id="361" name="Rectangle 31"/>
            <p:cNvSpPr/>
            <p:nvPr/>
          </p:nvSpPr>
          <p:spPr>
            <a:xfrm>
              <a:off x="1979280" y="4365720"/>
              <a:ext cx="46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 </a:t>
              </a:r>
              <a:r>
                <a:rPr b="0" lang="zh-TW" sz="2400" spc="-1" strike="noStrike">
                  <a:solidFill>
                    <a:srgbClr val="000000"/>
                  </a:solidFill>
                  <a:latin typeface="Tahoma"/>
                </a:rPr>
                <a:t>電子發票結構化信息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Line 39"/>
            <p:cNvSpPr/>
            <p:nvPr/>
          </p:nvSpPr>
          <p:spPr>
            <a:xfrm>
              <a:off x="1973160" y="4779360"/>
              <a:ext cx="4572000" cy="0"/>
            </a:xfrm>
            <a:prstGeom prst="line">
              <a:avLst/>
            </a:prstGeom>
            <a:ln w="3168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3" name="Text Box 40"/>
          <p:cNvSpPr/>
          <p:nvPr/>
        </p:nvSpPr>
        <p:spPr>
          <a:xfrm>
            <a:off x="61920" y="1484280"/>
            <a:ext cx="15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6633"/>
                </a:solidFill>
                <a:latin typeface="Times New Roman"/>
              </a:rPr>
              <a:t>供應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41"/>
          <p:cNvSpPr/>
          <p:nvPr/>
        </p:nvSpPr>
        <p:spPr>
          <a:xfrm>
            <a:off x="6622920" y="15508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6633"/>
                </a:solidFill>
                <a:latin typeface="Times New Roman"/>
              </a:rPr>
              <a:t>試點部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Group 2"/>
          <p:cNvGrpSpPr/>
          <p:nvPr/>
        </p:nvGrpSpPr>
        <p:grpSpPr>
          <a:xfrm>
            <a:off x="6559560" y="4336920"/>
            <a:ext cx="2620800" cy="2279880"/>
            <a:chOff x="6559560" y="4336920"/>
            <a:chExt cx="2620800" cy="2279880"/>
          </a:xfrm>
        </p:grpSpPr>
        <p:pic>
          <p:nvPicPr>
            <p:cNvPr id="366" name="Picture 12" descr="C:\Users\Eric Po\AppData\Local\Microsoft\Windows\Temporary Internet Files\Content.IE5\YN4F3SF3\MC900434845[1].png"/>
            <p:cNvPicPr/>
            <p:nvPr/>
          </p:nvPicPr>
          <p:blipFill>
            <a:blip r:embed="rId2"/>
            <a:stretch/>
          </p:blipFill>
          <p:spPr>
            <a:xfrm>
              <a:off x="6559560" y="4336920"/>
              <a:ext cx="1912320" cy="21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12" descr="C:\Users\Eric Po\AppData\Local\Microsoft\Windows\Temporary Internet Files\Content.IE5\YN4F3SF3\MC900434845[1].png"/>
            <p:cNvPicPr/>
            <p:nvPr/>
          </p:nvPicPr>
          <p:blipFill>
            <a:blip r:embed="rId3"/>
            <a:stretch/>
          </p:blipFill>
          <p:spPr>
            <a:xfrm>
              <a:off x="7268040" y="4510440"/>
              <a:ext cx="1912320" cy="210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8" name="Picture 15" descr="C:\Program Files (x86)\Microsoft Office\MEDIA\CAGCAT10\j0292020.wmf"/>
          <p:cNvPicPr/>
          <p:nvPr/>
        </p:nvPicPr>
        <p:blipFill>
          <a:blip r:embed="rId4"/>
          <a:stretch/>
        </p:blipFill>
        <p:spPr>
          <a:xfrm flipH="1">
            <a:off x="6856560" y="1959120"/>
            <a:ext cx="1614240" cy="1531800"/>
          </a:xfrm>
          <a:prstGeom prst="rect">
            <a:avLst/>
          </a:prstGeom>
          <a:ln w="0">
            <a:noFill/>
          </a:ln>
        </p:spPr>
      </p:pic>
      <p:grpSp>
        <p:nvGrpSpPr>
          <p:cNvPr id="369" name="Group 1"/>
          <p:cNvGrpSpPr/>
          <p:nvPr/>
        </p:nvGrpSpPr>
        <p:grpSpPr>
          <a:xfrm>
            <a:off x="23760" y="4581360"/>
            <a:ext cx="1514520" cy="2340000"/>
            <a:chOff x="23760" y="4581360"/>
            <a:chExt cx="1514520" cy="2340000"/>
          </a:xfrm>
        </p:grpSpPr>
        <p:pic>
          <p:nvPicPr>
            <p:cNvPr id="370" name="Picture 13" descr="C:\Users\Eric Po\AppData\Local\Microsoft\Windows\Temporary Internet Files\Content.IE5\DFCGSZB4\MC900435242[1].png"/>
            <p:cNvPicPr/>
            <p:nvPr/>
          </p:nvPicPr>
          <p:blipFill>
            <a:blip r:embed="rId5"/>
            <a:stretch/>
          </p:blipFill>
          <p:spPr>
            <a:xfrm>
              <a:off x="528480" y="4581360"/>
              <a:ext cx="100980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13" descr="C:\Users\Eric Po\AppData\Local\Microsoft\Windows\Temporary Internet Files\Content.IE5\DFCGSZB4\MC900435242[1].png"/>
            <p:cNvPicPr/>
            <p:nvPr/>
          </p:nvPicPr>
          <p:blipFill>
            <a:blip r:embed="rId6"/>
            <a:stretch/>
          </p:blipFill>
          <p:spPr>
            <a:xfrm>
              <a:off x="23760" y="4673520"/>
              <a:ext cx="1009800" cy="224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Line 39"/>
          <p:cNvSpPr/>
          <p:nvPr/>
        </p:nvSpPr>
        <p:spPr>
          <a:xfrm>
            <a:off x="539640" y="3814920"/>
            <a:ext cx="0" cy="62208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39"/>
          <p:cNvSpPr/>
          <p:nvPr/>
        </p:nvSpPr>
        <p:spPr>
          <a:xfrm flipV="1">
            <a:off x="7524720" y="3525840"/>
            <a:ext cx="0" cy="81288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7956720" y="3517920"/>
            <a:ext cx="0" cy="82080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39"/>
          <p:cNvSpPr/>
          <p:nvPr/>
        </p:nvSpPr>
        <p:spPr>
          <a:xfrm flipV="1">
            <a:off x="900000" y="3787560"/>
            <a:ext cx="0" cy="64908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Box 28"/>
          <p:cNvSpPr/>
          <p:nvPr/>
        </p:nvSpPr>
        <p:spPr>
          <a:xfrm>
            <a:off x="6804000" y="645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83763"/>
                </a:solidFill>
                <a:latin typeface="Tahoma"/>
              </a:rPr>
              <a:t>電子採購系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議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 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簡介電子發票與紙發票在系統流程的不同之處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5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有關電子發票的示範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包括帳戶設定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) – 20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3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使用電子發票服務時要注意的要點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0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4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CN" sz="2800" spc="-1" strike="noStrike">
                <a:solidFill>
                  <a:srgbClr val="a6a6a6"/>
                </a:solidFill>
                <a:latin typeface="arial,helvetica"/>
              </a:rPr>
              <a:t>答問環節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5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4917-3D93-4FF2-8C28-259FAE653572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議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簡介電子發票與紙發票在系統流程的不同之處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5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有關電子發票的示範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包括帳戶設定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) – 20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使用電子發票服務時要注意的要點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,helvetica"/>
              </a:rPr>
              <a:t>答問環節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5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E416-30E1-4118-85CE-F768B3531D8B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"/>
          <p:cNvPicPr/>
          <p:nvPr/>
        </p:nvPicPr>
        <p:blipFill>
          <a:blip r:embed="rId1"/>
          <a:srcRect l="16452" t="8307" r="17520" b="12216"/>
          <a:stretch/>
        </p:blipFill>
        <p:spPr>
          <a:xfrm>
            <a:off x="127080" y="0"/>
            <a:ext cx="8762760" cy="5621400"/>
          </a:xfrm>
          <a:prstGeom prst="rect">
            <a:avLst/>
          </a:prstGeom>
          <a:ln w="0">
            <a:noFill/>
          </a:ln>
        </p:spPr>
      </p:pic>
      <p:sp>
        <p:nvSpPr>
          <p:cNvPr id="381" name="投影片編號版面配置區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CB86-1B66-4E26-BD2E-7AB1DA320EC9}" type="slidenum">
              <a:rPr b="0" lang="en-GB" sz="1200" spc="-1" strike="noStrike">
                <a:solidFill>
                  <a:srgbClr val="045c75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圓角矩形 5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登入後的主頁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矩形 10"/>
          <p:cNvSpPr/>
          <p:nvPr/>
        </p:nvSpPr>
        <p:spPr>
          <a:xfrm>
            <a:off x="241200" y="2184480"/>
            <a:ext cx="1435320" cy="355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圓角矩形圖說文字 11"/>
          <p:cNvSpPr/>
          <p:nvPr/>
        </p:nvSpPr>
        <p:spPr>
          <a:xfrm>
            <a:off x="3059280" y="2997360"/>
            <a:ext cx="3671640" cy="1008000"/>
          </a:xfrm>
          <a:prstGeom prst="wedgeRoundRectCallout">
            <a:avLst>
              <a:gd name="adj1" fmla="val -83629"/>
              <a:gd name="adj2" fmla="val -109009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帳戶管理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附屬帳戶管理」以管理附屬帳戶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1" descr=""/>
          <p:cNvPicPr/>
          <p:nvPr/>
        </p:nvPicPr>
        <p:blipFill>
          <a:blip r:embed="rId1"/>
          <a:srcRect l="28089" t="86315" r="18145" b="6733"/>
          <a:stretch/>
        </p:blipFill>
        <p:spPr>
          <a:xfrm>
            <a:off x="1763640" y="5877000"/>
            <a:ext cx="7020000" cy="576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0" descr=""/>
          <p:cNvPicPr/>
          <p:nvPr/>
        </p:nvPicPr>
        <p:blipFill>
          <a:blip r:embed="rId2"/>
          <a:srcRect l="16355" t="8307" r="17642" b="12969"/>
          <a:stretch/>
        </p:blipFill>
        <p:spPr>
          <a:xfrm>
            <a:off x="114480" y="0"/>
            <a:ext cx="8759520" cy="5567400"/>
          </a:xfrm>
          <a:prstGeom prst="rect">
            <a:avLst/>
          </a:prstGeom>
          <a:ln w="0">
            <a:noFill/>
          </a:ln>
        </p:spPr>
      </p:pic>
      <p:sp>
        <p:nvSpPr>
          <p:cNvPr id="387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D949-3B2C-4ED7-B7DE-4EC4E279751A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圓角矩形 5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附屬帳戶管理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圓角矩形圖說文字 6"/>
          <p:cNvSpPr/>
          <p:nvPr/>
        </p:nvSpPr>
        <p:spPr>
          <a:xfrm>
            <a:off x="7380360" y="4869000"/>
            <a:ext cx="1582560" cy="792000"/>
          </a:xfrm>
          <a:prstGeom prst="wedgeRoundRectCallout">
            <a:avLst>
              <a:gd name="adj1" fmla="val 20504"/>
              <a:gd name="adj2" fmla="val 8302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「儲存」 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矩形 7"/>
          <p:cNvSpPr/>
          <p:nvPr/>
        </p:nvSpPr>
        <p:spPr>
          <a:xfrm>
            <a:off x="7956720" y="5969160"/>
            <a:ext cx="780840" cy="484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圓角矩形圖說文字 8"/>
          <p:cNvSpPr/>
          <p:nvPr/>
        </p:nvSpPr>
        <p:spPr>
          <a:xfrm>
            <a:off x="684360" y="1052640"/>
            <a:ext cx="7632720" cy="1871640"/>
          </a:xfrm>
          <a:prstGeom prst="wedgeRoundRectCallout">
            <a:avLst>
              <a:gd name="adj1" fmla="val 7018"/>
              <a:gd name="adj2" fmla="val 89152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果啟用了「查看電子發票」 ，則使用者可以搜索所有電子發票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果啟用了「新增電子發票」 ，則使用者可以搜索所有採購訂單和新增發票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果啟用了「接收電子發票通知」 ，則已成功提交電子發票或電子發票已被拒絕時，使用者將收到電子郵件確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矩形 9"/>
          <p:cNvSpPr/>
          <p:nvPr/>
        </p:nvSpPr>
        <p:spPr>
          <a:xfrm>
            <a:off x="3203640" y="3716280"/>
            <a:ext cx="2160360" cy="64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議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 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簡介電子發票與紙發票在系統流程的不同之處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5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2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有關電子發票的示範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(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包括帳戶設定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) – 20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使用電子發票服務時要注意的要點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4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CN" sz="2800" spc="-1" strike="noStrike">
                <a:solidFill>
                  <a:srgbClr val="a6a6a6"/>
                </a:solidFill>
                <a:latin typeface="arial,helvetica"/>
              </a:rPr>
              <a:t>答問環節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5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E67E-EAAC-460F-A7DD-10C37CB0E1D6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17b"/>
                </a:solidFill>
                <a:latin typeface="Calibri"/>
              </a:rPr>
              <a:t>使用電子發票服務時</a:t>
            </a:r>
            <a:br>
              <a:rPr sz="3600"/>
            </a:br>
            <a:r>
              <a:rPr b="0" lang="zh-TW" sz="3600" spc="-1" strike="noStrike">
                <a:solidFill>
                  <a:srgbClr val="04617b"/>
                </a:solidFill>
                <a:latin typeface="Calibri"/>
              </a:rPr>
              <a:t>要注意的要點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nstantia"/>
              </a:rPr>
              <a:t>設定附屬帳戶及電子發票相關權限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nstantia"/>
              </a:rPr>
              <a:t>在提交電子發票前，與相關政府部門負責人溝通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nstantia"/>
              </a:rPr>
              <a:t>定期網上查詢電子發票的狀況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zh-TW" sz="2600" spc="-1" strike="noStrike">
                <a:solidFill>
                  <a:srgbClr val="000000"/>
                </a:solidFill>
                <a:latin typeface="Constantia"/>
              </a:rPr>
              <a:t>如發票被拒絕，你將收到電郵通知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zh-TW" sz="2600" spc="-1" strike="noStrike">
                <a:solidFill>
                  <a:srgbClr val="000000"/>
                </a:solidFill>
                <a:latin typeface="Constantia"/>
              </a:rPr>
              <a:t>你雖然仍可以提交紙發票，但建議盡量使用電子發票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EBA4-81D0-4261-BB8B-EF11776CB4BF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04617b"/>
                </a:solidFill>
                <a:latin typeface="新細明體"/>
                <a:ea typeface="新細明體"/>
              </a:rPr>
              <a:t>支</a:t>
            </a:r>
            <a:r>
              <a:rPr b="0" lang="zh-TW" sz="5200" spc="-1" strike="noStrike">
                <a:solidFill>
                  <a:srgbClr val="04617b"/>
                </a:solidFill>
                <a:latin typeface="新細明體"/>
                <a:ea typeface="新細明體"/>
              </a:rPr>
              <a:t>援熱線</a:t>
            </a:r>
            <a:endParaRPr b="0" lang="en-US" sz="5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電話號碼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  (852) 8107 0608</a:t>
            </a:r>
            <a:br>
              <a:rPr sz="2600"/>
            </a:b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傳真號碼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 (852) 2645 8004</a:t>
            </a:r>
            <a:br>
              <a:rPr sz="2600"/>
            </a:b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電郵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   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eppmgmtoff@ogcio.gov.h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工作時間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上午八時至晚上九時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000000"/>
                </a:solidFill>
                <a:latin typeface="Constantia"/>
              </a:rPr>
              <a:t>週一至週五，公眾假期除外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6097-605C-4DE9-B766-0AA9417806A2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議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 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簡介電子發票與紙發票在系統流程的不同之處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5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2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有關電子發票的示範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(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包括帳戶設定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) – 20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3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使用電子發票服務時要注意的要點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0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,helvetica"/>
              </a:rPr>
              <a:t>答問環節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5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D83C-0F64-4458-AEF3-3F0AED06CE39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文字方塊 3"/>
          <p:cNvSpPr/>
          <p:nvPr/>
        </p:nvSpPr>
        <p:spPr>
          <a:xfrm>
            <a:off x="4031640" y="3068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ahoma"/>
              </a:rPr>
              <a:t>多謝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投影片編號版面配置區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A470-029E-480C-8B94-CDA424CFCDCD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議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簡介電子發票與紙發票在系統流程的不同之處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5 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2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有關電子發票的示範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(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包括帳戶設定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) – 20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3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使用電子發票服務時要注意的要點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0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4.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	</a:t>
            </a:r>
            <a:r>
              <a:rPr b="0" lang="zh-CN" sz="2800" spc="-1" strike="noStrike">
                <a:solidFill>
                  <a:srgbClr val="a6a6a6"/>
                </a:solidFill>
                <a:latin typeface="arial,helvetica"/>
              </a:rPr>
              <a:t>答問環節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 – </a:t>
            </a:r>
            <a:r>
              <a:rPr b="0" lang="en-US" sz="2800" spc="-1" strike="noStrike">
                <a:solidFill>
                  <a:srgbClr val="a6a6a6"/>
                </a:solidFill>
                <a:latin typeface="Constantia"/>
              </a:rPr>
              <a:t>15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 </a:t>
            </a:r>
            <a:r>
              <a:rPr b="0" lang="zh-TW" sz="2800" spc="-1" strike="noStrike">
                <a:solidFill>
                  <a:srgbClr val="a6a6a6"/>
                </a:solidFill>
                <a:latin typeface="Constantia"/>
              </a:rPr>
              <a:t>分鐘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4C6F-6E83-44C4-9123-C2AB49F5288D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971640" y="549360"/>
            <a:ext cx="7273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背景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10920" y="126792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電子發票服務是電子採購系統的一個附加功能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項目範圍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第一階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網上表單渠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供應商將可透過網上表單提交電子發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將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底啓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第二階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結構化信息渠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供應商的系統可以預先定義的格式經新的電子界面提交電子發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將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</a:t>
            </a:r>
            <a:r>
              <a:rPr b="0" lang="zh-TW" sz="2800" spc="-1" strike="noStrike">
                <a:solidFill>
                  <a:srgbClr val="000000"/>
                </a:solidFill>
                <a:latin typeface="Constantia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啓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E7C8-E298-41A0-B956-484F64C04426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12720" y="11592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- </a:t>
            </a:r>
            <a:r>
              <a:rPr b="0" lang="zh-TW" sz="3200" spc="-1" strike="noStrike">
                <a:solidFill>
                  <a:srgbClr val="04617b"/>
                </a:solidFill>
                <a:latin typeface="Calibri"/>
              </a:rPr>
              <a:t>供應商通過網上表單渠道提交電子發票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A4BD-2EE1-4704-A398-06E3DC25E6B7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資料庫圖表 6" descr=""/>
          <p:cNvPicPr/>
          <p:nvPr/>
        </p:nvPicPr>
        <p:blipFill>
          <a:blip r:embed="rId1"/>
          <a:stretch/>
        </p:blipFill>
        <p:spPr>
          <a:xfrm>
            <a:off x="-12600" y="1682640"/>
            <a:ext cx="9169200" cy="4687920"/>
          </a:xfrm>
          <a:prstGeom prst="rect">
            <a:avLst/>
          </a:prstGeom>
          <a:ln w="0">
            <a:noFill/>
          </a:ln>
        </p:spPr>
      </p:pic>
      <p:sp>
        <p:nvSpPr>
          <p:cNvPr id="258" name="文字方塊 4"/>
          <p:cNvSpPr/>
          <p:nvPr/>
        </p:nvSpPr>
        <p:spPr>
          <a:xfrm>
            <a:off x="826920" y="5950080"/>
            <a:ext cx="46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提交電子發票跟現有的電子報價提交類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rcRect l="7382" t="448" r="10335" b="5065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260" name="圓角矩形 18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電子採購網站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http://www.eprocurement.gov.h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矩形 20"/>
          <p:cNvSpPr/>
          <p:nvPr/>
        </p:nvSpPr>
        <p:spPr>
          <a:xfrm>
            <a:off x="395280" y="2924280"/>
            <a:ext cx="259236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圓角矩形圖說文字 19"/>
          <p:cNvSpPr/>
          <p:nvPr/>
        </p:nvSpPr>
        <p:spPr>
          <a:xfrm>
            <a:off x="1835280" y="2205000"/>
            <a:ext cx="1441440" cy="504720"/>
          </a:xfrm>
          <a:prstGeom prst="wedgeRoundRectCallout">
            <a:avLst>
              <a:gd name="adj1" fmla="val -35162"/>
              <a:gd name="adj2" fmla="val 8517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登入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投影片編號版面配置區 2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A436-81F8-4B57-AEC7-C392BCCAD972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3" descr=""/>
          <p:cNvPicPr/>
          <p:nvPr/>
        </p:nvPicPr>
        <p:blipFill>
          <a:blip r:embed="rId1"/>
          <a:srcRect l="16294" t="9085" r="17511" b="4153"/>
          <a:stretch/>
        </p:blipFill>
        <p:spPr>
          <a:xfrm>
            <a:off x="179280" y="0"/>
            <a:ext cx="8785440" cy="6135840"/>
          </a:xfrm>
          <a:prstGeom prst="rect">
            <a:avLst/>
          </a:prstGeom>
          <a:ln w="0">
            <a:noFill/>
          </a:ln>
        </p:spPr>
      </p:pic>
      <p:sp>
        <p:nvSpPr>
          <p:cNvPr id="265" name="圓角矩形圖說文字 6"/>
          <p:cNvSpPr/>
          <p:nvPr/>
        </p:nvSpPr>
        <p:spPr>
          <a:xfrm>
            <a:off x="5364000" y="4221000"/>
            <a:ext cx="3097440" cy="1513080"/>
          </a:xfrm>
          <a:prstGeom prst="wedgeRoundRectCallout">
            <a:avLst>
              <a:gd name="adj1" fmla="val 19856"/>
              <a:gd name="adj2" fmla="val -65638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果你已經登記使用數碼證書登入，請按「以數碼證書登入」進入數碼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書登入頁面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圓角矩形圖說文字 11"/>
          <p:cNvSpPr/>
          <p:nvPr/>
        </p:nvSpPr>
        <p:spPr>
          <a:xfrm>
            <a:off x="900000" y="3213000"/>
            <a:ext cx="2880000" cy="1008000"/>
          </a:xfrm>
          <a:prstGeom prst="wedgeRoundRectCallout">
            <a:avLst>
              <a:gd name="adj1" fmla="val 60675"/>
              <a:gd name="adj2" fmla="val -5550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如未能清楚看到驗證碼，請按「重新繪畫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圓角矩形 14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以用戶編號和密碼登入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圓角矩形圖說文字 15"/>
          <p:cNvSpPr/>
          <p:nvPr/>
        </p:nvSpPr>
        <p:spPr>
          <a:xfrm>
            <a:off x="7236000" y="2708280"/>
            <a:ext cx="1726920" cy="50472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登入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投影片編號版面配置區 1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FFA8-3805-4120-8E9C-B24C28EB641D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4427640" y="2421000"/>
            <a:ext cx="16570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矩形 12"/>
          <p:cNvSpPr/>
          <p:nvPr/>
        </p:nvSpPr>
        <p:spPr>
          <a:xfrm>
            <a:off x="6845400" y="3421080"/>
            <a:ext cx="1155600" cy="406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矩形 17"/>
          <p:cNvSpPr/>
          <p:nvPr/>
        </p:nvSpPr>
        <p:spPr>
          <a:xfrm>
            <a:off x="8028000" y="3421080"/>
            <a:ext cx="798480" cy="406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圓角矩形圖說文字 8"/>
          <p:cNvSpPr/>
          <p:nvPr/>
        </p:nvSpPr>
        <p:spPr>
          <a:xfrm>
            <a:off x="4284720" y="1052640"/>
            <a:ext cx="1728720" cy="792000"/>
          </a:xfrm>
          <a:prstGeom prst="wedgeRoundRectCallout">
            <a:avLst>
              <a:gd name="adj1" fmla="val -63708"/>
              <a:gd name="adj2" fmla="val 49898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輸入用戶編號和密碼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圓角矩形圖說文字 9"/>
          <p:cNvSpPr/>
          <p:nvPr/>
        </p:nvSpPr>
        <p:spPr>
          <a:xfrm>
            <a:off x="6156360" y="1484280"/>
            <a:ext cx="2016000" cy="647640"/>
          </a:xfrm>
          <a:prstGeom prst="wedgeRoundRectCallout">
            <a:avLst>
              <a:gd name="adj1" fmla="val -50055"/>
              <a:gd name="adj2" fmla="val 97574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輸入驗證碼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8" descr=""/>
          <p:cNvPicPr/>
          <p:nvPr/>
        </p:nvPicPr>
        <p:blipFill>
          <a:blip r:embed="rId1"/>
          <a:srcRect l="16294" t="9080" r="17514" b="4672"/>
          <a:stretch/>
        </p:blipFill>
        <p:spPr>
          <a:xfrm>
            <a:off x="179280" y="0"/>
            <a:ext cx="8785440" cy="6099120"/>
          </a:xfrm>
          <a:prstGeom prst="rect">
            <a:avLst/>
          </a:prstGeom>
          <a:ln w="0">
            <a:noFill/>
          </a:ln>
        </p:spPr>
      </p:pic>
      <p:sp>
        <p:nvSpPr>
          <p:cNvPr id="276" name="投影片編號版面配置區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7B36-B671-49BA-966A-A546ECC462F6}" type="slidenum">
              <a:rPr b="0" lang="en-GB" sz="1200" spc="-1" strike="noStrike">
                <a:solidFill>
                  <a:srgbClr val="045c75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圓角矩形 5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登入後的主頁面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矩形 6"/>
          <p:cNvSpPr/>
          <p:nvPr/>
        </p:nvSpPr>
        <p:spPr>
          <a:xfrm>
            <a:off x="324000" y="3573360"/>
            <a:ext cx="143964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圓角矩形圖說文字 7"/>
          <p:cNvSpPr/>
          <p:nvPr/>
        </p:nvSpPr>
        <p:spPr>
          <a:xfrm>
            <a:off x="2771640" y="4653000"/>
            <a:ext cx="3673440" cy="1008000"/>
          </a:xfrm>
          <a:prstGeom prst="wedgeRoundRectCallout">
            <a:avLst>
              <a:gd name="adj1" fmla="val -74291"/>
              <a:gd name="adj2" fmla="val -10775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採購訂單」 或「發票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新增發票」搜尋採購訂單及提交發票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矩形 8"/>
          <p:cNvSpPr/>
          <p:nvPr/>
        </p:nvSpPr>
        <p:spPr>
          <a:xfrm>
            <a:off x="324000" y="4259160"/>
            <a:ext cx="143964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4" descr=""/>
          <p:cNvPicPr/>
          <p:nvPr/>
        </p:nvPicPr>
        <p:blipFill>
          <a:blip r:embed="rId1"/>
          <a:srcRect l="16294" t="8307" r="17511" b="6562"/>
          <a:stretch/>
        </p:blipFill>
        <p:spPr>
          <a:xfrm>
            <a:off x="179280" y="260280"/>
            <a:ext cx="8785440" cy="6021360"/>
          </a:xfrm>
          <a:prstGeom prst="rect">
            <a:avLst/>
          </a:prstGeom>
          <a:ln w="0">
            <a:noFill/>
          </a:ln>
        </p:spPr>
      </p:pic>
      <p:sp>
        <p:nvSpPr>
          <p:cNvPr id="282" name="投影片編號版面配置區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ADF4-7DFB-46F2-841D-87111D5ED68C}" type="slidenum">
              <a:rPr b="0" lang="en-GB" sz="1200" spc="-1" strike="noStrike">
                <a:solidFill>
                  <a:srgbClr val="045c75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圓角矩形圖說文字 11"/>
          <p:cNvSpPr/>
          <p:nvPr/>
        </p:nvSpPr>
        <p:spPr>
          <a:xfrm>
            <a:off x="4572000" y="3645000"/>
            <a:ext cx="2087640" cy="50328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顯示搜尋結果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圓角矩形圖說文字 7"/>
          <p:cNvSpPr/>
          <p:nvPr/>
        </p:nvSpPr>
        <p:spPr>
          <a:xfrm>
            <a:off x="4859280" y="1628640"/>
            <a:ext cx="2232000" cy="648000"/>
          </a:xfrm>
          <a:prstGeom prst="wedgeRoundRectCallout">
            <a:avLst>
              <a:gd name="adj1" fmla="val -21657"/>
              <a:gd name="adj2" fmla="val 82074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輸入搜尋條件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圓角矩形圖說文字 8"/>
          <p:cNvSpPr/>
          <p:nvPr/>
        </p:nvSpPr>
        <p:spPr>
          <a:xfrm>
            <a:off x="7236000" y="3259080"/>
            <a:ext cx="1726920" cy="50472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搜尋」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圓角矩形圖說文字 13"/>
          <p:cNvSpPr/>
          <p:nvPr/>
        </p:nvSpPr>
        <p:spPr>
          <a:xfrm>
            <a:off x="4788000" y="5707080"/>
            <a:ext cx="1942920" cy="1081080"/>
          </a:xfrm>
          <a:prstGeom prst="wedgeRoundRectCallout">
            <a:avLst>
              <a:gd name="adj1" fmla="val 106287"/>
              <a:gd name="adj2" fmla="val -54388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zh-TW" sz="1800" spc="-1" strike="noStrike">
                <a:solidFill>
                  <a:srgbClr val="000000"/>
                </a:solidFill>
                <a:latin typeface="Constantia"/>
              </a:rPr>
              <a:t>按「新增發票」提交新發票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矩形 16"/>
          <p:cNvSpPr/>
          <p:nvPr/>
        </p:nvSpPr>
        <p:spPr>
          <a:xfrm>
            <a:off x="7956720" y="3978360"/>
            <a:ext cx="806400" cy="411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矩形 17"/>
          <p:cNvSpPr/>
          <p:nvPr/>
        </p:nvSpPr>
        <p:spPr>
          <a:xfrm>
            <a:off x="7620120" y="5367240"/>
            <a:ext cx="1149120" cy="25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圓角矩形 18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步驟</a:t>
            </a: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1 –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zh-TW" sz="1800" spc="-1" strike="noStrike">
                <a:solidFill>
                  <a:srgbClr val="ffffff"/>
                </a:solidFill>
                <a:latin typeface="Constantia"/>
              </a:rPr>
              <a:t>搜尋採購訂單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3:28:34Z</dcterms:created>
  <dc:creator>David Lam</dc:creator>
  <dc:description/>
  <dc:language>en-US</dc:language>
  <cp:lastModifiedBy>Ken TY HO</cp:lastModifiedBy>
  <dcterms:modified xsi:type="dcterms:W3CDTF">2013-07-11T06:36:25Z</dcterms:modified>
  <cp:revision>575</cp:revision>
  <dc:subject/>
  <dc:title>e-Procurement Consultancy Study</dc:title>
</cp:coreProperties>
</file>