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wmf" ContentType="image/x-wmf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10B-ABF0-4B60-803C-239A2F81F4E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54F-7277-4211-AC57-C77B6D270186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E79-E7DE-4248-B36E-19E46A42ADD3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EE1-3464-4C37-87DB-617A89FC60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2FC-C41A-4166-96EA-989655C793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D3F-C432-4174-8569-E337FCBF4F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3C0-EAE0-473D-B5AA-15B09C1C8A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D3D-504E-4D3A-8E91-0433C8B5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D56-5BE2-427B-BB08-B73AC5CB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79D-1A5C-4CBE-88BE-3002D98F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B43-5D8B-4058-A514-813EF43D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136-D0C7-4A4D-945D-20644CF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85A2-7DFE-4178-9917-783B5F9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737E-5905-46F5-978C-258FD3F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EA5A-3BA8-43D5-90AD-1F289F5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0F3-FE3E-4CA9-BE30-7CD0CF5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6258-0C58-4243-AC3A-2A211C59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8E73-B0C6-4C12-9A62-D113C80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E49-D4D4-48A7-9741-B624CF6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2C0-3F97-4455-BC2C-228ED432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FDE1-894E-4946-948A-F89943F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F9C-780C-46EB-AA3E-557A100C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5CCD-89A1-498C-B533-A6CE107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46A-EE11-4F08-8C85-4C16CE15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6803-EC43-43AC-B3DA-C7742B75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D657-E62A-4BC1-9167-024E25B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E72C-F768-4BBB-B920-1A83778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DBCC-0938-4D2D-8A15-4B1076C3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B741-47AC-4ECC-BA82-AB0A028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135-E4F6-43AC-A0FD-718011C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F182-A6D0-4615-9588-FB8D657A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38EF-F5C4-4852-AC28-EAEAB56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0C3B-A420-4BC5-85D8-D2950B3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DBB3-74B1-4E61-AC3D-50DC9CA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5462-B794-4B51-9AD1-55EAC51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5B92-343A-4818-8ECD-3A33707C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F9CE-216D-4796-BAB5-29E88566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586A-36D5-4875-915F-DDFA0F06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E8AC6-34E2-4EA5-B822-433A1B9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3213-2503-4D9A-ACF3-FFEDCEF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901-FB07-4596-A98A-552810C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D0CA-578C-416A-8C99-05A567B4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04EE-6C0B-4DB6-B2DB-9FD5EDA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C462-4306-47E3-9A91-6FFFD166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65C6-BE20-4B5C-8AFC-81654B2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C9D5-ED6E-40E1-A768-919A8BD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1519-6472-4779-8E3C-440E072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F82A-42BC-4D13-9C18-165CBA6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76BC-BB66-4CE4-BF5C-10DABA43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B452-8DB2-4386-AE82-2AD84EC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DC9-8625-4C27-A79F-DE1D59F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2B3-AECA-4B32-930F-BFF3D76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A98-56DF-4E17-8404-423568A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F52-EE10-45C1-A165-8D269C1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26C-6DE4-4842-B0AF-0129510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913-D68D-4447-B582-DF0F9ED33D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047-8E9C-4931-841C-A4E74697C9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343-1C85-47F6-839C-7775D7045F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782-F463-4568-8DBA-BA8A0C5E3F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09480" y="268200"/>
            <a:ext cx="7985160" cy="4102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&amp;27 May 20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1E5-BA0F-444B-8C89-C126BDF9286B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:\e-invoice\training\screen cap\screen cap\en_10_prepare_invoice.png"/>
          <p:cNvPicPr/>
          <p:nvPr/>
        </p:nvPicPr>
        <p:blipFill>
          <a:blip r:embed="rId1"/>
          <a:srcRect l="11721" t="884" r="10011" b="53415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6C10-F94A-4672-A454-5DC54905830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圓角矩形圖說文字 5"/>
          <p:cNvSpPr/>
          <p:nvPr/>
        </p:nvSpPr>
        <p:spPr>
          <a:xfrm>
            <a:off x="3780000" y="981000"/>
            <a:ext cx="244764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Invoice No.” is not specified, the system will generate a unique number for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圓角矩形圖說文字 6"/>
          <p:cNvSpPr/>
          <p:nvPr/>
        </p:nvSpPr>
        <p:spPr>
          <a:xfrm>
            <a:off x="6300720" y="2565360"/>
            <a:ext cx="1800360" cy="71928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e-invoice\training\screen cap\screen cap\en_10_prepare_invoice.png"/>
          <p:cNvPicPr/>
          <p:nvPr/>
        </p:nvPicPr>
        <p:blipFill>
          <a:blip r:embed="rId1"/>
          <a:srcRect l="11721" t="44763" r="10011" b="9408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001-BE60-40DF-BF8A-7BE1ED604B86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tem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圓角矩形圖說文字 7"/>
          <p:cNvSpPr/>
          <p:nvPr/>
        </p:nvSpPr>
        <p:spPr>
          <a:xfrm>
            <a:off x="34920" y="396252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remarks, e.g. prompt payment dis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8"/>
          <p:cNvSpPr/>
          <p:nvPr/>
        </p:nvSpPr>
        <p:spPr>
          <a:xfrm>
            <a:off x="34920" y="270828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ttachment if requir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圓角矩形圖說文字 10"/>
          <p:cNvSpPr/>
          <p:nvPr/>
        </p:nvSpPr>
        <p:spPr>
          <a:xfrm>
            <a:off x="2340000" y="3675240"/>
            <a:ext cx="2808360" cy="1726920"/>
          </a:xfrm>
          <a:prstGeom prst="wedgeRoundRectCallout">
            <a:avLst>
              <a:gd name="adj1" fmla="val -20824"/>
              <a:gd name="adj2" fmla="val 72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load the previous saved invoice content,  click “Browse” to browse a file in your computer and then click “Load Draf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圓角矩形圖說文字 11"/>
          <p:cNvSpPr/>
          <p:nvPr/>
        </p:nvSpPr>
        <p:spPr>
          <a:xfrm>
            <a:off x="5940360" y="3645000"/>
            <a:ext cx="2808360" cy="1079280"/>
          </a:xfrm>
          <a:prstGeom prst="wedgeRoundRectCallout">
            <a:avLst>
              <a:gd name="adj1" fmla="val 21236"/>
              <a:gd name="adj2" fmla="val 8218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Continue” to continue the submission of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圓角矩形圖說文字 9"/>
          <p:cNvSpPr/>
          <p:nvPr/>
        </p:nvSpPr>
        <p:spPr>
          <a:xfrm>
            <a:off x="5219640" y="3645000"/>
            <a:ext cx="2808360" cy="1079280"/>
          </a:xfrm>
          <a:prstGeom prst="wedgeRoundRectCallout">
            <a:avLst>
              <a:gd name="adj1" fmla="val -21500"/>
              <a:gd name="adj2" fmla="val 8571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submit later, click “Save As Draft” to save the invoice content to your compu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7524720" y="5199120"/>
            <a:ext cx="719280" cy="347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5651640" y="5186520"/>
            <a:ext cx="1224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4"/>
          <p:cNvSpPr/>
          <p:nvPr/>
        </p:nvSpPr>
        <p:spPr>
          <a:xfrm>
            <a:off x="5353200" y="6251400"/>
            <a:ext cx="865080" cy="23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矩形 15"/>
          <p:cNvSpPr/>
          <p:nvPr/>
        </p:nvSpPr>
        <p:spPr>
          <a:xfrm>
            <a:off x="7020000" y="6453360"/>
            <a:ext cx="122400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D:\e-invoice\training\screen cap\screen cap\en_11_confirm_invoice_ecert.png"/>
          <p:cNvPicPr/>
          <p:nvPr/>
        </p:nvPicPr>
        <p:blipFill>
          <a:blip r:embed="rId1"/>
          <a:srcRect l="11710" t="862" r="10019" b="47025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9E68-A924-4E57-9100-8D4038BEA382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圓角矩形 4"/>
          <p:cNvGrpSpPr/>
          <p:nvPr/>
        </p:nvGrpSpPr>
        <p:grpSpPr>
          <a:xfrm>
            <a:off x="5364000" y="1762200"/>
            <a:ext cx="2810160" cy="1030320"/>
            <a:chOff x="5364000" y="1762200"/>
            <a:chExt cx="2810160" cy="1030320"/>
          </a:xfrm>
        </p:grpSpPr>
        <p:pic>
          <p:nvPicPr>
            <p:cNvPr id="274" name="圓角矩形 4" descr=""/>
            <p:cNvPicPr/>
            <p:nvPr/>
          </p:nvPicPr>
          <p:blipFill>
            <a:blip r:embed="rId2"/>
            <a:stretch/>
          </p:blipFill>
          <p:spPr>
            <a:xfrm>
              <a:off x="5364000" y="1762200"/>
              <a:ext cx="2810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470560" y="1952640"/>
              <a:ext cx="259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Check the invoice information before submission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7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9D4-5C7A-4F4E-8B46-8B7932BF13E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6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oose the invoice authentication meth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1979640" y="4264200"/>
            <a:ext cx="3384360" cy="296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4406-4562-4B55-967D-F5FED23D91B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Digital Certific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5796000" y="3789360"/>
            <a:ext cx="2592360" cy="158436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hoose the type of Digital Certificate, enter HKID No. or Certificate of Incorporation Registration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6659640" y="5084640"/>
            <a:ext cx="2233440" cy="64800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Select the file of 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9"/>
          <p:cNvSpPr/>
          <p:nvPr/>
        </p:nvSpPr>
        <p:spPr>
          <a:xfrm>
            <a:off x="6084720" y="5300640"/>
            <a:ext cx="237492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password of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圓角矩形圖說文字 10"/>
          <p:cNvSpPr/>
          <p:nvPr/>
        </p:nvSpPr>
        <p:spPr>
          <a:xfrm>
            <a:off x="6516720" y="5013360"/>
            <a:ext cx="2232000" cy="79200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7534440" y="606888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圖說文字 12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1 (Digital Certificat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:\e-invoice\training\screen cap\screen cap\en_12_confirm_invoice_secret.png"/>
          <p:cNvPicPr/>
          <p:nvPr/>
        </p:nvPicPr>
        <p:blipFill>
          <a:blip r:embed="rId1"/>
          <a:stretch/>
        </p:blipFill>
        <p:spPr>
          <a:xfrm>
            <a:off x="1835280" y="3933720"/>
            <a:ext cx="6465600" cy="251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D:\e-invoice\training\screen cap\screen cap\en_11_confirm_invoice_ecert.png"/>
          <p:cNvPicPr/>
          <p:nvPr/>
        </p:nvPicPr>
        <p:blipFill>
          <a:blip r:embed="rId2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9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154-B233-42FC-A43F-D151564A89C0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Secre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2" descr="D:\e-invoice\training\screen cap\screen cap\en_12_confirm_invoice_secret.png"/>
          <p:cNvPicPr/>
          <p:nvPr/>
        </p:nvPicPr>
        <p:blipFill>
          <a:blip r:embed="rId3"/>
          <a:stretch/>
        </p:blipFill>
        <p:spPr>
          <a:xfrm>
            <a:off x="1847880" y="3933720"/>
            <a:ext cx="6464160" cy="2519640"/>
          </a:xfrm>
          <a:prstGeom prst="rect">
            <a:avLst/>
          </a:prstGeom>
          <a:ln w="0">
            <a:noFill/>
          </a:ln>
        </p:spPr>
      </p:pic>
      <p:sp>
        <p:nvSpPr>
          <p:cNvPr id="295" name="圓角矩形圖說文字 7"/>
          <p:cNvSpPr/>
          <p:nvPr/>
        </p:nvSpPr>
        <p:spPr>
          <a:xfrm>
            <a:off x="5796000" y="3500280"/>
            <a:ext cx="2592360" cy="1152720"/>
          </a:xfrm>
          <a:prstGeom prst="wedgeRoundRectCallout">
            <a:avLst>
              <a:gd name="adj1" fmla="val -61009"/>
              <a:gd name="adj2" fmla="val 59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heck your email account to receive secret code, and then enter the secre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圓角矩形圖說文字 8"/>
          <p:cNvSpPr/>
          <p:nvPr/>
        </p:nvSpPr>
        <p:spPr>
          <a:xfrm>
            <a:off x="6659640" y="4724280"/>
            <a:ext cx="223344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your login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圓角矩形圖說文字 9"/>
          <p:cNvSpPr/>
          <p:nvPr/>
        </p:nvSpPr>
        <p:spPr>
          <a:xfrm>
            <a:off x="1042920" y="5805360"/>
            <a:ext cx="3673440" cy="936720"/>
          </a:xfrm>
          <a:prstGeom prst="wedgeRoundRectCallout">
            <a:avLst>
              <a:gd name="adj1" fmla="val 64087"/>
              <a:gd name="adj2" fmla="val -4935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Click Here” to generate secret code and send it to your registered email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7520040" y="601992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13"/>
          <p:cNvSpPr/>
          <p:nvPr/>
        </p:nvSpPr>
        <p:spPr>
          <a:xfrm>
            <a:off x="3564000" y="299736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2 (Secret Cod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16"/>
          <p:cNvSpPr/>
          <p:nvPr/>
        </p:nvSpPr>
        <p:spPr>
          <a:xfrm>
            <a:off x="6227640" y="4941720"/>
            <a:ext cx="2232000" cy="7909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4"/>
          <a:srcRect l="0" t="0" r="32026" b="0"/>
          <a:stretch/>
        </p:blipFill>
        <p:spPr>
          <a:xfrm>
            <a:off x="468360" y="0"/>
            <a:ext cx="4824360" cy="4743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2" name="矩形 17"/>
          <p:cNvSpPr/>
          <p:nvPr/>
        </p:nvSpPr>
        <p:spPr>
          <a:xfrm>
            <a:off x="539640" y="2349360"/>
            <a:ext cx="36720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D:\e-invoice\training\screen cap\screen cap\en_13_acknowledgement.png"/>
          <p:cNvPicPr/>
          <p:nvPr/>
        </p:nvPicPr>
        <p:blipFill>
          <a:blip r:embed="rId1"/>
          <a:srcRect l="11710" t="1047" r="10019" b="3597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53DD-2DDA-4E29-8C1D-119ABD867369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D:\e-invoice\training\screen cap\screen cap\en_13_acknowledgement.png"/>
          <p:cNvPicPr/>
          <p:nvPr/>
        </p:nvPicPr>
        <p:blipFill>
          <a:blip r:embed="rId1"/>
          <a:srcRect l="11710" t="27934" r="10019" b="908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DF07-1823-4736-92E9-8E1BE982BD5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圓角矩形圖說文字 4"/>
          <p:cNvSpPr/>
          <p:nvPr/>
        </p:nvSpPr>
        <p:spPr>
          <a:xfrm>
            <a:off x="723600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rint” to print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7534440" y="606420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6732720" y="6064200"/>
            <a:ext cx="718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圓角矩形圖說文字 8"/>
          <p:cNvSpPr/>
          <p:nvPr/>
        </p:nvSpPr>
        <p:spPr>
          <a:xfrm>
            <a:off x="637236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Save” to save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14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-mail acknowledgement will be sent to the account who submitted the e-Invoice and whose sub-accounts with “Receive e-Invoice acknowledgment” enabled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12000">
    <p:wipe dir="u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F04-1F54-424F-BC8C-24D2E39C940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- External Suppliers submit e-Invoice via structured message channel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43"/>
          <p:cNvGrpSpPr/>
          <p:nvPr/>
        </p:nvGrpSpPr>
        <p:grpSpPr>
          <a:xfrm>
            <a:off x="1979640" y="5445000"/>
            <a:ext cx="4581000" cy="1191240"/>
            <a:chOff x="1979640" y="5445000"/>
            <a:chExt cx="4581000" cy="1191240"/>
          </a:xfrm>
        </p:grpSpPr>
        <p:sp>
          <p:nvSpPr>
            <p:cNvPr id="320" name="Rectangle 29"/>
            <p:cNvSpPr/>
            <p:nvPr/>
          </p:nvSpPr>
          <p:spPr>
            <a:xfrm>
              <a:off x="1985400" y="5445000"/>
              <a:ext cx="457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Acknowledgement (no. of accepted/rejected records; reasons for rejectio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1979640" y="589788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4"/>
          <p:cNvGrpSpPr/>
          <p:nvPr/>
        </p:nvGrpSpPr>
        <p:grpSpPr>
          <a:xfrm>
            <a:off x="1973160" y="4365720"/>
            <a:ext cx="4614840" cy="825480"/>
            <a:chOff x="1973160" y="4365720"/>
            <a:chExt cx="4614840" cy="825480"/>
          </a:xfrm>
        </p:grpSpPr>
        <p:sp>
          <p:nvSpPr>
            <p:cNvPr id="324" name="Rectangle 31"/>
            <p:cNvSpPr/>
            <p:nvPr/>
          </p:nvSpPr>
          <p:spPr>
            <a:xfrm>
              <a:off x="1979280" y="4365720"/>
              <a:ext cx="46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e-Invoice Structured Messag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Pilot Depart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29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33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28"/>
          <p:cNvSpPr/>
          <p:nvPr/>
        </p:nvSpPr>
        <p:spPr>
          <a:xfrm>
            <a:off x="6948360" y="623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Tahoma"/>
              </a:rPr>
              <a:t>e-Procurement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9F0-E7E8-420A-8FA0-D3234C2A3C0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6D31-FC52-4CFF-866C-897EF47CE32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162-4737-4B34-A9AC-10D45E4CC6E6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755640" y="2041560"/>
            <a:ext cx="1295280" cy="43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圓角矩形圖說文字 11"/>
          <p:cNvSpPr/>
          <p:nvPr/>
        </p:nvSpPr>
        <p:spPr>
          <a:xfrm>
            <a:off x="2987640" y="2781360"/>
            <a:ext cx="367200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Account Management &gt; Sub-account Management” to manage sub-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8250" t="2055" r="9334" b="3372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349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4CEE-874F-4C61-84F7-5C6C89AF6B4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2050920" y="6100920"/>
            <a:ext cx="63374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2" descr="D:\e-invoice\training\screen cap\screen cap\en_14_sub_account.png"/>
          <p:cNvPicPr/>
          <p:nvPr/>
        </p:nvPicPr>
        <p:blipFill>
          <a:blip r:embed="rId2"/>
          <a:srcRect l="28280" t="88420" r="17448" b="8579"/>
          <a:stretch/>
        </p:blipFill>
        <p:spPr>
          <a:xfrm>
            <a:off x="2048040" y="6210360"/>
            <a:ext cx="6340320" cy="422280"/>
          </a:xfrm>
          <a:prstGeom prst="rect">
            <a:avLst/>
          </a:prstGeom>
          <a:ln w="0">
            <a:noFill/>
          </a:ln>
        </p:spPr>
      </p:pic>
      <p:sp>
        <p:nvSpPr>
          <p:cNvPr id="35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ub-account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圓角矩形圖說文字 6"/>
          <p:cNvSpPr/>
          <p:nvPr/>
        </p:nvSpPr>
        <p:spPr>
          <a:xfrm>
            <a:off x="7093080" y="5157720"/>
            <a:ext cx="1295280" cy="79236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av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7647120" y="6259680"/>
            <a:ext cx="73332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View e-Invoice” is enabled,  the user can search all 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Create e-Invoice” is enabled,  the  user can search all PO and create inv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Receive e-Invoice acknowledgment” is enabled, the user will receive E-mail acknowledgement when e-Invoice has been successfully submitted or e-Invoice has been rejected by the Government offic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矩形 9"/>
          <p:cNvSpPr/>
          <p:nvPr/>
        </p:nvSpPr>
        <p:spPr>
          <a:xfrm>
            <a:off x="4572000" y="3141720"/>
            <a:ext cx="2160720" cy="57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3558-AB20-44B2-817A-A58780B97A6E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oints need to be aware when using e-Invoice Serv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up sub-account and grant access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municate with your Government Officer before sending the e-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 the on-line status of e-Invoice periodically (You will receive e-mail if reject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ou can still send paper invoice but e-Invoice is prefer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3DE-5D92-46E0-B54B-F19CB60600F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Helpdes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 No.:   (852) 8107 0608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x No.:  (852) 2645 800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-Mail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ng Hours:    08:00 am - 09:00 pm Monday to Friday except public holi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12E-4365-414D-9727-D8846CDD2C8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E5B-8FD8-41D2-AA7B-0F79C3C1CBD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字方塊 3"/>
          <p:cNvSpPr/>
          <p:nvPr/>
        </p:nvSpPr>
        <p:spPr>
          <a:xfrm>
            <a:off x="3104640" y="3068640"/>
            <a:ext cx="29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CB92-278B-4590-9B84-1C851D62789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28A-C043-4DCD-AA76-FE33F7D69B35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-Invoice Module is an add-on to the e-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c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1 (Web-form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line form will be added to the external portal for suppliers to submit electronic 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at the end of June 201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 (Structured message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terface with the supplier’s system will be provided for submission of electronic invoice in pre-defined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in Dec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1F0-5DE5-4C1D-8270-0465F3D9134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- External Suppliers submit e-Invoice via web-form channel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19EA-DD38-4614-A6D6-E0A66C549991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17" name="文字方塊 4"/>
          <p:cNvSpPr/>
          <p:nvPr/>
        </p:nvSpPr>
        <p:spPr>
          <a:xfrm>
            <a:off x="826920" y="595008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ssion of e-Invoice follows the flow of existing e-Sub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6455" t="0" r="7775" b="1025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9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e-Procurement websi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矩形 20"/>
          <p:cNvSpPr/>
          <p:nvPr/>
        </p:nvSpPr>
        <p:spPr>
          <a:xfrm>
            <a:off x="611280" y="3068640"/>
            <a:ext cx="2305080" cy="61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圓角矩形圖說文字 19"/>
          <p:cNvSpPr/>
          <p:nvPr/>
        </p:nvSpPr>
        <p:spPr>
          <a:xfrm>
            <a:off x="1332000" y="2492280"/>
            <a:ext cx="1152360" cy="50508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Logi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25B6-1DED-4785-8F60-0F6CA2DA27A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rcRect l="7586" t="532" r="8683" b="1002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6"/>
          <p:cNvSpPr/>
          <p:nvPr/>
        </p:nvSpPr>
        <p:spPr>
          <a:xfrm>
            <a:off x="4643280" y="3645000"/>
            <a:ext cx="3097440" cy="151272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have registered to login by Digital Certificate, please click “Login by Digital Certificate” to enter the login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圓角矩形圖說文字 8"/>
          <p:cNvSpPr/>
          <p:nvPr/>
        </p:nvSpPr>
        <p:spPr>
          <a:xfrm>
            <a:off x="4859280" y="1341360"/>
            <a:ext cx="1728720" cy="792360"/>
          </a:xfrm>
          <a:prstGeom prst="wedgeRoundRectCallout">
            <a:avLst>
              <a:gd name="adj1" fmla="val -62972"/>
              <a:gd name="adj2" fmla="val 2264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user ID and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圓角矩形圖說文字 9"/>
          <p:cNvSpPr/>
          <p:nvPr/>
        </p:nvSpPr>
        <p:spPr>
          <a:xfrm>
            <a:off x="6012000" y="1125360"/>
            <a:ext cx="2089080" cy="790920"/>
          </a:xfrm>
          <a:prstGeom prst="wedgeRoundRectCallout">
            <a:avLst>
              <a:gd name="adj1" fmla="val 16810"/>
              <a:gd name="adj2" fmla="val 831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Enter characters as shown in the picture on the lef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圓角矩形圖說文字 11"/>
          <p:cNvSpPr/>
          <p:nvPr/>
        </p:nvSpPr>
        <p:spPr>
          <a:xfrm>
            <a:off x="1979640" y="2852640"/>
            <a:ext cx="2879640" cy="115272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case you can’t view the Security Code clearly, please click “Regene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Login by User ID and pass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圓角矩形圖說文字 15"/>
          <p:cNvSpPr/>
          <p:nvPr/>
        </p:nvSpPr>
        <p:spPr>
          <a:xfrm>
            <a:off x="6732720" y="227664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lick “Login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D7B-3976-4782-A79C-4E49506B6553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148360" y="2530440"/>
            <a:ext cx="838080" cy="2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5867280" y="3008160"/>
            <a:ext cx="175572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矩形 17"/>
          <p:cNvSpPr/>
          <p:nvPr/>
        </p:nvSpPr>
        <p:spPr>
          <a:xfrm>
            <a:off x="7596360" y="3008160"/>
            <a:ext cx="75060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35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57A-67D7-4A0D-9BDB-516F2AAA39DA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757080" y="3887640"/>
            <a:ext cx="1295640" cy="43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圓角矩形圖說文字 7"/>
          <p:cNvSpPr/>
          <p:nvPr/>
        </p:nvSpPr>
        <p:spPr>
          <a:xfrm>
            <a:off x="2916360" y="525636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urchase Order” or “Invoice &gt; Create Invoice” to search a purchase order for submitting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757080" y="4824360"/>
            <a:ext cx="1295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e-invoice\training\screen cap\screen cap\en_08_create_invoice.png"/>
          <p:cNvPicPr/>
          <p:nvPr/>
        </p:nvPicPr>
        <p:blipFill>
          <a:blip r:embed="rId1"/>
          <a:srcRect l="11587" t="1346" r="10146" b="1655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4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E465-AF1B-4600-B4F6-4D97FA632D84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圓角矩形圖說文字 11"/>
          <p:cNvSpPr/>
          <p:nvPr/>
        </p:nvSpPr>
        <p:spPr>
          <a:xfrm>
            <a:off x="4572000" y="3213000"/>
            <a:ext cx="172872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Display “search resul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群組 15"/>
          <p:cNvGrpSpPr/>
          <p:nvPr/>
        </p:nvGrpSpPr>
        <p:grpSpPr>
          <a:xfrm>
            <a:off x="1978200" y="3886200"/>
            <a:ext cx="6372000" cy="2755800"/>
            <a:chOff x="1978200" y="3886200"/>
            <a:chExt cx="6372000" cy="2755800"/>
          </a:xfrm>
        </p:grpSpPr>
        <p:pic>
          <p:nvPicPr>
            <p:cNvPr id="244" name="Picture 4" descr=""/>
            <p:cNvPicPr/>
            <p:nvPr/>
          </p:nvPicPr>
          <p:blipFill>
            <a:blip r:embed="rId2"/>
            <a:stretch/>
          </p:blipFill>
          <p:spPr>
            <a:xfrm>
              <a:off x="1979640" y="6165360"/>
              <a:ext cx="421308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D:\e-invoice\training\screen cap\screen cap\en_09_search_po_result.png"/>
            <p:cNvPicPr/>
            <p:nvPr/>
          </p:nvPicPr>
          <p:blipFill>
            <a:blip r:embed="rId3"/>
            <a:srcRect l="28673" t="41812" r="16791" b="35248"/>
            <a:stretch/>
          </p:blipFill>
          <p:spPr>
            <a:xfrm>
              <a:off x="1978200" y="3886200"/>
              <a:ext cx="6372000" cy="22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圓角矩形圖說文字 7"/>
          <p:cNvSpPr/>
          <p:nvPr/>
        </p:nvSpPr>
        <p:spPr>
          <a:xfrm>
            <a:off x="4572000" y="1341360"/>
            <a:ext cx="2232000" cy="64764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searching criter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圓角矩形圖說文字 8"/>
          <p:cNvSpPr/>
          <p:nvPr/>
        </p:nvSpPr>
        <p:spPr>
          <a:xfrm>
            <a:off x="673272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earch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圓角矩形圖說文字 13"/>
          <p:cNvSpPr/>
          <p:nvPr/>
        </p:nvSpPr>
        <p:spPr>
          <a:xfrm>
            <a:off x="5508720" y="5732640"/>
            <a:ext cx="1942920" cy="1081080"/>
          </a:xfrm>
          <a:prstGeom prst="wedgeRoundRectCallout">
            <a:avLst>
              <a:gd name="adj1" fmla="val 40273"/>
              <a:gd name="adj2" fmla="val -12722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Click “Create Invoice” to submit a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矩形 16"/>
          <p:cNvSpPr/>
          <p:nvPr/>
        </p:nvSpPr>
        <p:spPr>
          <a:xfrm>
            <a:off x="7489800" y="3402000"/>
            <a:ext cx="7272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7251840" y="4624560"/>
            <a:ext cx="1041120" cy="21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1 – Search 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6-21T01:48:50Z</dcterms:modified>
  <cp:revision>502</cp:revision>
  <dc:subject/>
  <dc:title>e-Procurement Consultancy Study</dc:title>
</cp:coreProperties>
</file>