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wmf" ContentType="image/x-wmf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49DB-5A34-4C1D-A98D-FA6A12354A9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21CF-5771-472D-AB3C-502447E5158E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ecure File Transfer Protocol(SFTP) server is suggested to be located inside the DMZ to receive structured message files from supplier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A889-B9B9-44B5-AA9D-594C9D76665A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F1DE-5DEC-4272-9AD9-F99E652B91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7BAA-262E-46AD-8D5D-4F9CDA2748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CC3D-06CD-4419-B387-83FD8591CB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BDBB-1F7F-46C9-A0E6-A4D8BE2A9B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497-13AF-4AC1-A5C6-7010A8BB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2C6-0C81-49F2-948A-DF9D21BC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AA0-31A9-4ACF-A9ED-0A6E90F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7A8-ADC7-4C71-8B5D-FBA278D0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86A2-95A8-4DAB-B8BE-1520DB42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3F4A-2513-485A-99EE-0A07A501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698D-D1E9-415D-8872-B16A232A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A981-6FD4-4B5B-B5FB-845BA8A3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504A-077C-4C9E-9A11-D5534EE4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7C0A-86C1-475D-8442-16598F0B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A52C-4596-42A4-91D5-0AC6A55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5FE-E774-42C2-99FB-2369600B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1D33-A911-474D-9855-1E4DBB7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A66F-82D7-4C46-98D6-F65FEBE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C7F0-55E4-4162-82CC-6B83891C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C5C5-92BF-4C97-B632-CB7DD4EF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74D9-5CDC-4048-BC5B-165796F2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4292-A76C-4025-A60C-651BA9D3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FA8D-FFD9-4EFD-B17D-DF36B332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6340-7F7E-4593-92F5-CEC23A95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1C95-F4FF-4ABA-81D1-2273D5FE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0A65-FD76-4F5B-A626-7E0CBC4B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ECD-B915-4593-A1BF-5E9FBD5D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4CDA-30CD-42F1-8BBD-32897FA1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B7E02-846A-414E-A5B2-C939032D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6119-C7F6-483C-ABFB-7A14468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6523-E3E5-4F54-BD75-7AD6712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42EC-F940-4CA3-8C7D-E97F208A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EC44E-C2C6-475F-BC6A-E21F228E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1826-4862-46E0-B302-23D87AFC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2C11D-F8BE-4D43-A2CA-D7D638E7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3ACA6-B561-4DC8-AF7A-B83E4C33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3260-1F9A-4006-8DE5-68ACE570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C10-03AC-4AEA-BF9F-E0581A6C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D7E6-59AE-44C8-AF47-EC3C804A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AA451-F0B5-4690-91B2-689CDE4C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9E40-0504-474A-92D9-35AB3FC7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1960-8A6E-4898-A95B-37015F8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26DE-9CC3-4B4E-BAB9-729251FF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8856-19DF-4EA9-A720-50A4A56B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4EED6-0953-4E75-ADD3-279D7EFE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75E0-5945-47E3-8DB8-CFBFE983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7F0C-3C19-4998-8893-72833DCE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8E5-A511-47EF-8E66-B7643001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505-5E5D-4696-87EE-EA71B906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836-7ED5-471C-8867-82D70CC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A97-3570-4CA1-8979-D2D4F9F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015-F1BC-46BD-8AC4-600E68DF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CE32-DFDD-442D-B309-244B931726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70B-40A0-44AB-8A62-393D3E9E7C9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3D57-CD71-4801-A84D-D320FC1EFA9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剪去並圓角化單一角落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手繪多邊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手繪多邊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D486-4BA1-4BBE-A3A9-1ACC52D4EE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eppmgmtoff@ogcio.gov.hk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09480" y="268200"/>
            <a:ext cx="7985160" cy="4102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10920" y="4797000"/>
            <a:ext cx="78548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&amp;27 May 201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9BE9-B6BF-4FCA-80DE-9930065A15A2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D:\e-invoice\training\screen cap\screen cap\en_10_prepare_invoice.png"/>
          <p:cNvPicPr/>
          <p:nvPr/>
        </p:nvPicPr>
        <p:blipFill>
          <a:blip r:embed="rId1"/>
          <a:srcRect l="11721" t="884" r="10011" b="53415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53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797-CFAB-437F-ADBB-5980C49BBB97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圓角矩形圖說文字 5"/>
          <p:cNvSpPr/>
          <p:nvPr/>
        </p:nvSpPr>
        <p:spPr>
          <a:xfrm>
            <a:off x="3780000" y="981000"/>
            <a:ext cx="2447640" cy="1152720"/>
          </a:xfrm>
          <a:prstGeom prst="wedgeRoundRectCallout">
            <a:avLst>
              <a:gd name="adj1" fmla="val -20879"/>
              <a:gd name="adj2" fmla="val 6388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Invoice No.” is not specified, the system will generate a unique number for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圓角矩形圖說文字 6"/>
          <p:cNvSpPr/>
          <p:nvPr/>
        </p:nvSpPr>
        <p:spPr>
          <a:xfrm>
            <a:off x="6300720" y="2565360"/>
            <a:ext cx="1800360" cy="719280"/>
          </a:xfrm>
          <a:prstGeom prst="wedgeRoundRectCallout">
            <a:avLst>
              <a:gd name="adj1" fmla="val -91347"/>
              <a:gd name="adj2" fmla="val 4338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ter  invoice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圓角矩形 7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2 – Prepare Invoice 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D:\e-invoice\training\screen cap\screen cap\en_10_prepare_invoice.png"/>
          <p:cNvPicPr/>
          <p:nvPr/>
        </p:nvPicPr>
        <p:blipFill>
          <a:blip r:embed="rId1"/>
          <a:srcRect l="11721" t="44763" r="10011" b="9408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5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CC69-7A82-42D8-B143-3E8ACC7DA5F7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圓角矩形 4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2 – Prepare Invoice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圓角矩形圖說文字 5"/>
          <p:cNvSpPr/>
          <p:nvPr/>
        </p:nvSpPr>
        <p:spPr>
          <a:xfrm>
            <a:off x="34920" y="11592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ter  invoice item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圓角矩形圖說文字 7"/>
          <p:cNvSpPr/>
          <p:nvPr/>
        </p:nvSpPr>
        <p:spPr>
          <a:xfrm>
            <a:off x="34920" y="3962520"/>
            <a:ext cx="1800360" cy="1081080"/>
          </a:xfrm>
          <a:prstGeom prst="wedgeRoundRectCallout">
            <a:avLst>
              <a:gd name="adj1" fmla="val 67388"/>
              <a:gd name="adj2" fmla="val 2133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ter remarks, e.g. prompt payment dis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圓角矩形圖說文字 8"/>
          <p:cNvSpPr/>
          <p:nvPr/>
        </p:nvSpPr>
        <p:spPr>
          <a:xfrm>
            <a:off x="34920" y="270828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d attachment if requir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圓角矩形圖說文字 10"/>
          <p:cNvSpPr/>
          <p:nvPr/>
        </p:nvSpPr>
        <p:spPr>
          <a:xfrm>
            <a:off x="2340000" y="3675240"/>
            <a:ext cx="2808360" cy="1726920"/>
          </a:xfrm>
          <a:prstGeom prst="wedgeRoundRectCallout">
            <a:avLst>
              <a:gd name="adj1" fmla="val -20824"/>
              <a:gd name="adj2" fmla="val 724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you want to load the previous saved invoice content,  click “Browse” to browse a file in your computer and then click “Load Draft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圓角矩形圖說文字 11"/>
          <p:cNvSpPr/>
          <p:nvPr/>
        </p:nvSpPr>
        <p:spPr>
          <a:xfrm>
            <a:off x="5940360" y="3645000"/>
            <a:ext cx="2808360" cy="1079280"/>
          </a:xfrm>
          <a:prstGeom prst="wedgeRoundRectCallout">
            <a:avLst>
              <a:gd name="adj1" fmla="val 21236"/>
              <a:gd name="adj2" fmla="val 8218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Continue” to continue the submission of 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圓角矩形圖說文字 9"/>
          <p:cNvSpPr/>
          <p:nvPr/>
        </p:nvSpPr>
        <p:spPr>
          <a:xfrm>
            <a:off x="5219640" y="3645000"/>
            <a:ext cx="2808360" cy="1079280"/>
          </a:xfrm>
          <a:prstGeom prst="wedgeRoundRectCallout">
            <a:avLst>
              <a:gd name="adj1" fmla="val -21500"/>
              <a:gd name="adj2" fmla="val 8571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you want to submit later, click “Save As Draft” to save the invoice content to your compu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7524720" y="5199120"/>
            <a:ext cx="719280" cy="347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5651640" y="5186520"/>
            <a:ext cx="1224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矩形 14"/>
          <p:cNvSpPr/>
          <p:nvPr/>
        </p:nvSpPr>
        <p:spPr>
          <a:xfrm>
            <a:off x="5353200" y="6251400"/>
            <a:ext cx="865080" cy="23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矩形 15"/>
          <p:cNvSpPr/>
          <p:nvPr/>
        </p:nvSpPr>
        <p:spPr>
          <a:xfrm>
            <a:off x="7020000" y="6453360"/>
            <a:ext cx="1224000" cy="36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8000">
    <p:wipe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D:\e-invoice\training\screen cap\screen cap\en_11_confirm_invoice_ecert.png"/>
          <p:cNvPicPr/>
          <p:nvPr/>
        </p:nvPicPr>
        <p:blipFill>
          <a:blip r:embed="rId1"/>
          <a:srcRect l="11710" t="862" r="10019" b="47025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681E-BFA3-41A9-962B-C33B312F0D48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" name="圓角矩形 4"/>
          <p:cNvGrpSpPr/>
          <p:nvPr/>
        </p:nvGrpSpPr>
        <p:grpSpPr>
          <a:xfrm>
            <a:off x="5364000" y="1762200"/>
            <a:ext cx="2810160" cy="1030320"/>
            <a:chOff x="5364000" y="1762200"/>
            <a:chExt cx="2810160" cy="1030320"/>
          </a:xfrm>
        </p:grpSpPr>
        <p:pic>
          <p:nvPicPr>
            <p:cNvPr id="274" name="圓角矩形 4" descr=""/>
            <p:cNvPicPr/>
            <p:nvPr/>
          </p:nvPicPr>
          <p:blipFill>
            <a:blip r:embed="rId2"/>
            <a:stretch/>
          </p:blipFill>
          <p:spPr>
            <a:xfrm>
              <a:off x="5364000" y="1762200"/>
              <a:ext cx="2810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470560" y="1952640"/>
              <a:ext cx="2593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Check the invoice information before submission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D:\e-invoice\training\screen cap\screen cap\en_11_confirm_invoice_ecert.png"/>
          <p:cNvPicPr/>
          <p:nvPr/>
        </p:nvPicPr>
        <p:blipFill>
          <a:blip r:embed="rId1"/>
          <a:srcRect l="11710" t="39124" r="10019" b="8555"/>
          <a:stretch/>
        </p:blipFill>
        <p:spPr>
          <a:xfrm>
            <a:off x="0" y="-57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77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F5E9-2B89-4DC3-81C0-146C9B54E214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圓角矩形圖說文字 6"/>
          <p:cNvSpPr/>
          <p:nvPr/>
        </p:nvSpPr>
        <p:spPr>
          <a:xfrm>
            <a:off x="3419640" y="2852640"/>
            <a:ext cx="244764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oose the invoice authentication metho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矩形 10"/>
          <p:cNvSpPr/>
          <p:nvPr/>
        </p:nvSpPr>
        <p:spPr>
          <a:xfrm>
            <a:off x="1979640" y="4264200"/>
            <a:ext cx="3384360" cy="296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wipe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D:\e-invoice\training\screen cap\screen cap\en_11_confirm_invoice_ecert.png"/>
          <p:cNvPicPr/>
          <p:nvPr/>
        </p:nvPicPr>
        <p:blipFill>
          <a:blip r:embed="rId1"/>
          <a:srcRect l="11710" t="39124" r="10019" b="8555"/>
          <a:stretch/>
        </p:blipFill>
        <p:spPr>
          <a:xfrm>
            <a:off x="0" y="-57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82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DAFD-05AC-436C-89C1-F3A3936CA3F5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by using Digital Certific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圓角矩形圖說文字 7"/>
          <p:cNvSpPr/>
          <p:nvPr/>
        </p:nvSpPr>
        <p:spPr>
          <a:xfrm>
            <a:off x="5796000" y="3789360"/>
            <a:ext cx="2592360" cy="158436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hoose the type of Digital Certificate, enter HKID No. or Certificate of Incorporation Registration 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圓角矩形圖說文字 8"/>
          <p:cNvSpPr/>
          <p:nvPr/>
        </p:nvSpPr>
        <p:spPr>
          <a:xfrm>
            <a:off x="6659640" y="5084640"/>
            <a:ext cx="2233440" cy="64800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Select the file of  Digital Certific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圓角矩形圖說文字 9"/>
          <p:cNvSpPr/>
          <p:nvPr/>
        </p:nvSpPr>
        <p:spPr>
          <a:xfrm>
            <a:off x="6084720" y="5300640"/>
            <a:ext cx="2374920" cy="64944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Enter password of Digital Certific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圓角矩形圖說文字 10"/>
          <p:cNvSpPr/>
          <p:nvPr/>
        </p:nvSpPr>
        <p:spPr>
          <a:xfrm>
            <a:off x="6516720" y="5013360"/>
            <a:ext cx="2232000" cy="79200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Click “Confirm” to confirm submi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矩形 11"/>
          <p:cNvSpPr/>
          <p:nvPr/>
        </p:nvSpPr>
        <p:spPr>
          <a:xfrm>
            <a:off x="7534440" y="6068880"/>
            <a:ext cx="720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圓角矩形圖說文字 12"/>
          <p:cNvSpPr/>
          <p:nvPr/>
        </p:nvSpPr>
        <p:spPr>
          <a:xfrm>
            <a:off x="3419640" y="2852640"/>
            <a:ext cx="244764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Select “Method 1 (Digital Certificate)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D:\e-invoice\training\screen cap\screen cap\en_12_confirm_invoice_secret.png"/>
          <p:cNvPicPr/>
          <p:nvPr/>
        </p:nvPicPr>
        <p:blipFill>
          <a:blip r:embed="rId1"/>
          <a:stretch/>
        </p:blipFill>
        <p:spPr>
          <a:xfrm>
            <a:off x="1835280" y="3933720"/>
            <a:ext cx="6465600" cy="251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D:\e-invoice\training\screen cap\screen cap\en_11_confirm_invoice_ecert.png"/>
          <p:cNvPicPr/>
          <p:nvPr/>
        </p:nvPicPr>
        <p:blipFill>
          <a:blip r:embed="rId2"/>
          <a:srcRect l="11710" t="39124" r="10019" b="8555"/>
          <a:stretch/>
        </p:blipFill>
        <p:spPr>
          <a:xfrm>
            <a:off x="0" y="-57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92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9760-DEF0-40C7-BB85-A94A752CE778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by using Secre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Picture 2" descr="D:\e-invoice\training\screen cap\screen cap\en_12_confirm_invoice_secret.png"/>
          <p:cNvPicPr/>
          <p:nvPr/>
        </p:nvPicPr>
        <p:blipFill>
          <a:blip r:embed="rId3"/>
          <a:stretch/>
        </p:blipFill>
        <p:spPr>
          <a:xfrm>
            <a:off x="1847880" y="3933720"/>
            <a:ext cx="6464160" cy="2519640"/>
          </a:xfrm>
          <a:prstGeom prst="rect">
            <a:avLst/>
          </a:prstGeom>
          <a:ln w="0">
            <a:noFill/>
          </a:ln>
        </p:spPr>
      </p:pic>
      <p:sp>
        <p:nvSpPr>
          <p:cNvPr id="295" name="圓角矩形圖說文字 7"/>
          <p:cNvSpPr/>
          <p:nvPr/>
        </p:nvSpPr>
        <p:spPr>
          <a:xfrm>
            <a:off x="5796000" y="3500280"/>
            <a:ext cx="2592360" cy="1152720"/>
          </a:xfrm>
          <a:prstGeom prst="wedgeRoundRectCallout">
            <a:avLst>
              <a:gd name="adj1" fmla="val -61009"/>
              <a:gd name="adj2" fmla="val 5927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Check your email account to receive secret code, and then enter the secret co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圓角矩形圖說文字 8"/>
          <p:cNvSpPr/>
          <p:nvPr/>
        </p:nvSpPr>
        <p:spPr>
          <a:xfrm>
            <a:off x="6659640" y="4724280"/>
            <a:ext cx="2233440" cy="64944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Enter your login passwo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圓角矩形圖說文字 9"/>
          <p:cNvSpPr/>
          <p:nvPr/>
        </p:nvSpPr>
        <p:spPr>
          <a:xfrm>
            <a:off x="1042920" y="5805360"/>
            <a:ext cx="3673440" cy="936720"/>
          </a:xfrm>
          <a:prstGeom prst="wedgeRoundRectCallout">
            <a:avLst>
              <a:gd name="adj1" fmla="val 64087"/>
              <a:gd name="adj2" fmla="val -49351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lick “Click Here” to generate secret code and send it to your registered email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7520040" y="6019920"/>
            <a:ext cx="720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圓角矩形圖說文字 13"/>
          <p:cNvSpPr/>
          <p:nvPr/>
        </p:nvSpPr>
        <p:spPr>
          <a:xfrm>
            <a:off x="3564000" y="2997360"/>
            <a:ext cx="244800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Select “Method 2 (Secret Code)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圓角矩形圖說文字 16"/>
          <p:cNvSpPr/>
          <p:nvPr/>
        </p:nvSpPr>
        <p:spPr>
          <a:xfrm>
            <a:off x="6227640" y="4941720"/>
            <a:ext cx="2232000" cy="7909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Click “Confirm” to confirm submi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4"/>
          <a:srcRect l="0" t="0" r="32026" b="0"/>
          <a:stretch/>
        </p:blipFill>
        <p:spPr>
          <a:xfrm>
            <a:off x="468360" y="0"/>
            <a:ext cx="4824360" cy="4743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2" name="矩形 17"/>
          <p:cNvSpPr/>
          <p:nvPr/>
        </p:nvSpPr>
        <p:spPr>
          <a:xfrm>
            <a:off x="539640" y="2349360"/>
            <a:ext cx="367200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3" descr="D:\e-invoice\training\screen cap\screen cap\en_13_acknowledgement.png"/>
          <p:cNvPicPr/>
          <p:nvPr/>
        </p:nvPicPr>
        <p:blipFill>
          <a:blip r:embed="rId1"/>
          <a:srcRect l="11710" t="1047" r="10019" b="35972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304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A6FD-E96C-4D79-84F5-F4B3965DE51E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cknowledgement for submission 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D:\e-invoice\training\screen cap\screen cap\en_13_acknowledgement.png"/>
          <p:cNvPicPr/>
          <p:nvPr/>
        </p:nvPicPr>
        <p:blipFill>
          <a:blip r:embed="rId1"/>
          <a:srcRect l="11710" t="27934" r="10019" b="9082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307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A9E5-0CAD-4BD6-91AD-32DC51830D8B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cknowledgement for submission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圓角矩形圖說文字 4"/>
          <p:cNvSpPr/>
          <p:nvPr/>
        </p:nvSpPr>
        <p:spPr>
          <a:xfrm>
            <a:off x="7236000" y="5013360"/>
            <a:ext cx="1728720" cy="792000"/>
          </a:xfrm>
          <a:prstGeom prst="wedgeRoundRectCallout">
            <a:avLst>
              <a:gd name="adj1" fmla="val -20981"/>
              <a:gd name="adj2" fmla="val 7944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Print” to print a cop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矩形 6"/>
          <p:cNvSpPr/>
          <p:nvPr/>
        </p:nvSpPr>
        <p:spPr>
          <a:xfrm>
            <a:off x="7534440" y="6064200"/>
            <a:ext cx="720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矩形 7"/>
          <p:cNvSpPr/>
          <p:nvPr/>
        </p:nvSpPr>
        <p:spPr>
          <a:xfrm>
            <a:off x="6732720" y="6064200"/>
            <a:ext cx="718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圓角矩形圖說文字 8"/>
          <p:cNvSpPr/>
          <p:nvPr/>
        </p:nvSpPr>
        <p:spPr>
          <a:xfrm>
            <a:off x="6372360" y="5013360"/>
            <a:ext cx="1728720" cy="792000"/>
          </a:xfrm>
          <a:prstGeom prst="wedgeRoundRectCallout">
            <a:avLst>
              <a:gd name="adj1" fmla="val -20981"/>
              <a:gd name="adj2" fmla="val 7944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Save” to save a cop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" name="圓角矩形 9"/>
          <p:cNvGrpSpPr/>
          <p:nvPr/>
        </p:nvGrpSpPr>
        <p:grpSpPr>
          <a:xfrm>
            <a:off x="3560760" y="1158840"/>
            <a:ext cx="4613400" cy="1590840"/>
            <a:chOff x="3560760" y="1158840"/>
            <a:chExt cx="4613400" cy="1590840"/>
          </a:xfrm>
        </p:grpSpPr>
        <p:pic>
          <p:nvPicPr>
            <p:cNvPr id="314" name="圓角矩形 9" descr=""/>
            <p:cNvPicPr/>
            <p:nvPr/>
          </p:nvPicPr>
          <p:blipFill>
            <a:blip r:embed="rId2"/>
            <a:stretch/>
          </p:blipFill>
          <p:spPr>
            <a:xfrm>
              <a:off x="3560760" y="1158840"/>
              <a:ext cx="46134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706920" y="1266840"/>
              <a:ext cx="43225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E-mail acknowledgement will be sent to the account who submitted the e-Invoice and whose sub-accounts with “Receive e-Invoice acknowledgment” enabled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advTm="12000">
    <p:wipe dir="u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651B-B1B8-4006-A295-B6821596E57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- External Suppliers submit e-Invoice via structured message channel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Picture 5" descr="C:\Users\Eric Po\AppData\Local\Microsoft\Windows\Temporary Internet Files\Content.IE5\DFCGSZB4\MP900443451[1].jpg"/>
          <p:cNvPicPr/>
          <p:nvPr/>
        </p:nvPicPr>
        <p:blipFill>
          <a:blip r:embed="rId1"/>
          <a:srcRect l="0" t="0" r="4452" b="0"/>
          <a:stretch/>
        </p:blipFill>
        <p:spPr>
          <a:xfrm>
            <a:off x="28440" y="1484280"/>
            <a:ext cx="21337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43"/>
          <p:cNvGrpSpPr/>
          <p:nvPr/>
        </p:nvGrpSpPr>
        <p:grpSpPr>
          <a:xfrm>
            <a:off x="1979640" y="5445000"/>
            <a:ext cx="4581000" cy="1191240"/>
            <a:chOff x="1979640" y="5445000"/>
            <a:chExt cx="4581000" cy="1191240"/>
          </a:xfrm>
        </p:grpSpPr>
        <p:sp>
          <p:nvSpPr>
            <p:cNvPr id="320" name="Rectangle 29"/>
            <p:cNvSpPr/>
            <p:nvPr/>
          </p:nvSpPr>
          <p:spPr>
            <a:xfrm>
              <a:off x="1985400" y="5445000"/>
              <a:ext cx="457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. Acknowledgement (no. of accepted/rejected records; reasons for rejectio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1979640" y="5897880"/>
              <a:ext cx="457524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2" name="Rectangle 33"/>
          <p:cNvSpPr/>
          <p:nvPr/>
        </p:nvSpPr>
        <p:spPr>
          <a:xfrm>
            <a:off x="2065320" y="4762440"/>
            <a:ext cx="4883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Group 44"/>
          <p:cNvGrpSpPr/>
          <p:nvPr/>
        </p:nvGrpSpPr>
        <p:grpSpPr>
          <a:xfrm>
            <a:off x="1973160" y="4365720"/>
            <a:ext cx="4614840" cy="825480"/>
            <a:chOff x="1973160" y="4365720"/>
            <a:chExt cx="4614840" cy="825480"/>
          </a:xfrm>
        </p:grpSpPr>
        <p:sp>
          <p:nvSpPr>
            <p:cNvPr id="324" name="Rectangle 31"/>
            <p:cNvSpPr/>
            <p:nvPr/>
          </p:nvSpPr>
          <p:spPr>
            <a:xfrm>
              <a:off x="1979280" y="4365720"/>
              <a:ext cx="460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 e-Invoice Structured Messag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39"/>
            <p:cNvSpPr/>
            <p:nvPr/>
          </p:nvSpPr>
          <p:spPr>
            <a:xfrm>
              <a:off x="1973160" y="4779360"/>
              <a:ext cx="457200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6" name="Text Box 40"/>
          <p:cNvSpPr/>
          <p:nvPr/>
        </p:nvSpPr>
        <p:spPr>
          <a:xfrm>
            <a:off x="61920" y="1484280"/>
            <a:ext cx="15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1"/>
          <p:cNvSpPr/>
          <p:nvPr/>
        </p:nvSpPr>
        <p:spPr>
          <a:xfrm>
            <a:off x="6622920" y="15508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Pilot Depart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6559560" y="4336920"/>
            <a:ext cx="2620800" cy="2279880"/>
            <a:chOff x="6559560" y="4336920"/>
            <a:chExt cx="2620800" cy="2279880"/>
          </a:xfrm>
        </p:grpSpPr>
        <p:pic>
          <p:nvPicPr>
            <p:cNvPr id="329" name="Picture 12" descr="C:\Users\Eric Po\AppData\Local\Microsoft\Windows\Temporary Internet Files\Content.IE5\YN4F3SF3\MC900434845[1].png"/>
            <p:cNvPicPr/>
            <p:nvPr/>
          </p:nvPicPr>
          <p:blipFill>
            <a:blip r:embed="rId2"/>
            <a:stretch/>
          </p:blipFill>
          <p:spPr>
            <a:xfrm>
              <a:off x="6559560" y="4336920"/>
              <a:ext cx="191232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12" descr="C:\Users\Eric Po\AppData\Local\Microsoft\Windows\Temporary Internet Files\Content.IE5\YN4F3SF3\MC900434845[1].png"/>
            <p:cNvPicPr/>
            <p:nvPr/>
          </p:nvPicPr>
          <p:blipFill>
            <a:blip r:embed="rId3"/>
            <a:stretch/>
          </p:blipFill>
          <p:spPr>
            <a:xfrm>
              <a:off x="7268040" y="4510440"/>
              <a:ext cx="1912320" cy="210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Picture 15" descr="C:\Program Files (x86)\Microsoft Office\MEDIA\CAGCAT10\j0292020.wmf"/>
          <p:cNvPicPr/>
          <p:nvPr/>
        </p:nvPicPr>
        <p:blipFill>
          <a:blip r:embed="rId4"/>
          <a:stretch/>
        </p:blipFill>
        <p:spPr>
          <a:xfrm flipH="1">
            <a:off x="6856560" y="1959120"/>
            <a:ext cx="1614240" cy="1531800"/>
          </a:xfrm>
          <a:prstGeom prst="rect">
            <a:avLst/>
          </a:prstGeom>
          <a:ln w="0">
            <a:noFill/>
          </a:ln>
        </p:spPr>
      </p:pic>
      <p:grpSp>
        <p:nvGrpSpPr>
          <p:cNvPr id="332" name="Group 1"/>
          <p:cNvGrpSpPr/>
          <p:nvPr/>
        </p:nvGrpSpPr>
        <p:grpSpPr>
          <a:xfrm>
            <a:off x="23760" y="4581360"/>
            <a:ext cx="1514520" cy="2340000"/>
            <a:chOff x="23760" y="4581360"/>
            <a:chExt cx="1514520" cy="2340000"/>
          </a:xfrm>
        </p:grpSpPr>
        <p:pic>
          <p:nvPicPr>
            <p:cNvPr id="333" name="Picture 13" descr="C:\Users\Eric Po\AppData\Local\Microsoft\Windows\Temporary Internet Files\Content.IE5\DFCGSZB4\MC900435242[1].png"/>
            <p:cNvPicPr/>
            <p:nvPr/>
          </p:nvPicPr>
          <p:blipFill>
            <a:blip r:embed="rId5"/>
            <a:stretch/>
          </p:blipFill>
          <p:spPr>
            <a:xfrm>
              <a:off x="528480" y="4581360"/>
              <a:ext cx="100980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3" descr="C:\Users\Eric Po\AppData\Local\Microsoft\Windows\Temporary Internet Files\Content.IE5\DFCGSZB4\MC900435242[1].png"/>
            <p:cNvPicPr/>
            <p:nvPr/>
          </p:nvPicPr>
          <p:blipFill>
            <a:blip r:embed="rId6"/>
            <a:stretch/>
          </p:blipFill>
          <p:spPr>
            <a:xfrm>
              <a:off x="23760" y="4673520"/>
              <a:ext cx="1009800" cy="22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Line 39"/>
          <p:cNvSpPr/>
          <p:nvPr/>
        </p:nvSpPr>
        <p:spPr>
          <a:xfrm>
            <a:off x="539640" y="3814920"/>
            <a:ext cx="0" cy="622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9"/>
          <p:cNvSpPr/>
          <p:nvPr/>
        </p:nvSpPr>
        <p:spPr>
          <a:xfrm flipV="1">
            <a:off x="7524720" y="3525840"/>
            <a:ext cx="0" cy="8128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39"/>
          <p:cNvSpPr/>
          <p:nvPr/>
        </p:nvSpPr>
        <p:spPr>
          <a:xfrm>
            <a:off x="7956720" y="3517920"/>
            <a:ext cx="0" cy="82080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9"/>
          <p:cNvSpPr/>
          <p:nvPr/>
        </p:nvSpPr>
        <p:spPr>
          <a:xfrm flipV="1">
            <a:off x="900000" y="3787560"/>
            <a:ext cx="0" cy="649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28"/>
          <p:cNvSpPr/>
          <p:nvPr/>
        </p:nvSpPr>
        <p:spPr>
          <a:xfrm>
            <a:off x="6948360" y="623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Tahoma"/>
              </a:rPr>
              <a:t>e-Procurement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681E-73A7-4AEA-84B6-FC309449432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D37-AA26-40D3-A10F-08BF05E47D60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7556" t="735" r="8985" b="10122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21AB-D8AE-4624-B6F2-F330711DE7A2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Interface after login the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755640" y="2041560"/>
            <a:ext cx="1295280" cy="43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圓角矩形圖說文字 11"/>
          <p:cNvSpPr/>
          <p:nvPr/>
        </p:nvSpPr>
        <p:spPr>
          <a:xfrm>
            <a:off x="2987640" y="2781360"/>
            <a:ext cx="3672000" cy="1008000"/>
          </a:xfrm>
          <a:prstGeom prst="wedgeRoundRectCallout">
            <a:avLst>
              <a:gd name="adj1" fmla="val -74291"/>
              <a:gd name="adj2" fmla="val -1077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Account Management &gt; Sub-account Management” to manage sub-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rcRect l="8250" t="2055" r="9334" b="3372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349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C171-BDEC-4D37-BF05-4122C14B7E2C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2050920" y="6100920"/>
            <a:ext cx="633744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Picture 2" descr="D:\e-invoice\training\screen cap\screen cap\en_14_sub_account.png"/>
          <p:cNvPicPr/>
          <p:nvPr/>
        </p:nvPicPr>
        <p:blipFill>
          <a:blip r:embed="rId2"/>
          <a:srcRect l="28280" t="88420" r="17448" b="8579"/>
          <a:stretch/>
        </p:blipFill>
        <p:spPr>
          <a:xfrm>
            <a:off x="2048040" y="6210360"/>
            <a:ext cx="6340320" cy="422280"/>
          </a:xfrm>
          <a:prstGeom prst="rect">
            <a:avLst/>
          </a:prstGeom>
          <a:ln w="0">
            <a:noFill/>
          </a:ln>
        </p:spPr>
      </p:pic>
      <p:sp>
        <p:nvSpPr>
          <p:cNvPr id="352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ub-account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圓角矩形圖說文字 6"/>
          <p:cNvSpPr/>
          <p:nvPr/>
        </p:nvSpPr>
        <p:spPr>
          <a:xfrm>
            <a:off x="7093080" y="5157720"/>
            <a:ext cx="1295280" cy="792360"/>
          </a:xfrm>
          <a:prstGeom prst="wedgeRoundRectCallout">
            <a:avLst>
              <a:gd name="adj1" fmla="val 20504"/>
              <a:gd name="adj2" fmla="val 830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lick “Sav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矩形 7"/>
          <p:cNvSpPr/>
          <p:nvPr/>
        </p:nvSpPr>
        <p:spPr>
          <a:xfrm>
            <a:off x="7647120" y="6259680"/>
            <a:ext cx="73332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圓角矩形圖說文字 8"/>
          <p:cNvSpPr/>
          <p:nvPr/>
        </p:nvSpPr>
        <p:spPr>
          <a:xfrm>
            <a:off x="684360" y="1052640"/>
            <a:ext cx="7632720" cy="187164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View e-Invoice” is enabled,  the user can search all e-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Create e-Invoice” is enabled,  the  user can search all PO and create inv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Receive e-Invoice acknowledgment” is enabled, the user will receive E-mail acknowledgement when e-Invoice has been successfully submitted or e-Invoice has been rejected by the Government offic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矩形 9"/>
          <p:cNvSpPr/>
          <p:nvPr/>
        </p:nvSpPr>
        <p:spPr>
          <a:xfrm>
            <a:off x="4572000" y="3141720"/>
            <a:ext cx="2160720" cy="57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2A1F-8173-4516-9525-9A39159A091A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Points need to be aware when using e-Invoice Servic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tup sub-account and grant access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municate with your Government Officer before sending the e-Invo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eck the on-line status of e-Invoice periodically (You will receive e-mail if reject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ou can still send paper invoice but e-Invoice is prefer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1613-C6B9-464B-BBA8-771E9962D08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Helpdes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 No.:   (852) 8107 0608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x No.:  (852) 2645 800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-Mail:    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eppmgmtoff@ogcio.gov.h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rating Hours:    08:00 am - 09:00 pm Monday to Friday except public holid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FDCE-DA31-43AC-B38D-868FA070B55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7165-47E5-4671-8715-2F7F75E23F2B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字方塊 3"/>
          <p:cNvSpPr/>
          <p:nvPr/>
        </p:nvSpPr>
        <p:spPr>
          <a:xfrm>
            <a:off x="3104640" y="3068640"/>
            <a:ext cx="294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投影片編號版面配置區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8426-AA18-44BA-9D8E-C1E13F85727D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C0AB-DD20-46A7-B645-CBC1E0F87569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971640" y="549360"/>
            <a:ext cx="7273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0920" y="126792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-Invoice Module is an add-on to the e-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c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1 (Web-form channe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nline form will be added to the external portal for suppliers to submit electronic invo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launched at the end of June 201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 (Structured message channe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nterface with the supplier’s system will be provided for submission of electronic invoice in pre-defined form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launched in Dec 201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82FD-EB2A-4599-A294-CA9BA07A8A65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- External Suppliers submit e-Invoice via web-form channel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649-3A91-4ABB-9F4F-9F7B470F6FB5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資料庫圖表 6" descr=""/>
          <p:cNvPicPr/>
          <p:nvPr/>
        </p:nvPicPr>
        <p:blipFill>
          <a:blip r:embed="rId1"/>
          <a:stretch/>
        </p:blipFill>
        <p:spPr>
          <a:xfrm>
            <a:off x="-12600" y="1682640"/>
            <a:ext cx="9169200" cy="4687920"/>
          </a:xfrm>
          <a:prstGeom prst="rect">
            <a:avLst/>
          </a:prstGeom>
          <a:ln w="0">
            <a:noFill/>
          </a:ln>
        </p:spPr>
      </p:pic>
      <p:sp>
        <p:nvSpPr>
          <p:cNvPr id="217" name="文字方塊 4"/>
          <p:cNvSpPr/>
          <p:nvPr/>
        </p:nvSpPr>
        <p:spPr>
          <a:xfrm>
            <a:off x="826920" y="595008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mission of e-Invoice follows the flow of existing e-Submi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6455" t="0" r="7775" b="1025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19" name="圓角矩形 18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e-Procurement websi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www.eprocurement.gov.h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矩形 20"/>
          <p:cNvSpPr/>
          <p:nvPr/>
        </p:nvSpPr>
        <p:spPr>
          <a:xfrm>
            <a:off x="611280" y="3068640"/>
            <a:ext cx="2305080" cy="61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圓角矩形圖說文字 19"/>
          <p:cNvSpPr/>
          <p:nvPr/>
        </p:nvSpPr>
        <p:spPr>
          <a:xfrm>
            <a:off x="1332000" y="2492280"/>
            <a:ext cx="1152360" cy="505080"/>
          </a:xfrm>
          <a:prstGeom prst="wedgeRoundRectCallout">
            <a:avLst>
              <a:gd name="adj1" fmla="val -35162"/>
              <a:gd name="adj2" fmla="val 8517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Login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投影片編號版面配置區 2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C3C7-3500-475E-AB07-81183336BD4F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rcRect l="7586" t="532" r="8683" b="10025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224" name="圓角矩形圖說文字 6"/>
          <p:cNvSpPr/>
          <p:nvPr/>
        </p:nvSpPr>
        <p:spPr>
          <a:xfrm>
            <a:off x="4643280" y="3645000"/>
            <a:ext cx="3097440" cy="1512720"/>
          </a:xfrm>
          <a:prstGeom prst="wedgeRoundRectCallout">
            <a:avLst>
              <a:gd name="adj1" fmla="val 19856"/>
              <a:gd name="adj2" fmla="val -6563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you have registered to login by Digital Certificate, please click “Login by Digital Certificate” to enter the login interf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圓角矩形圖說文字 8"/>
          <p:cNvSpPr/>
          <p:nvPr/>
        </p:nvSpPr>
        <p:spPr>
          <a:xfrm>
            <a:off x="4859280" y="1341360"/>
            <a:ext cx="1728720" cy="792360"/>
          </a:xfrm>
          <a:prstGeom prst="wedgeRoundRectCallout">
            <a:avLst>
              <a:gd name="adj1" fmla="val -62972"/>
              <a:gd name="adj2" fmla="val 2264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Enter user ID and passwo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圓角矩形圖說文字 9"/>
          <p:cNvSpPr/>
          <p:nvPr/>
        </p:nvSpPr>
        <p:spPr>
          <a:xfrm>
            <a:off x="6012000" y="1125360"/>
            <a:ext cx="2089080" cy="790920"/>
          </a:xfrm>
          <a:prstGeom prst="wedgeRoundRectCallout">
            <a:avLst>
              <a:gd name="adj1" fmla="val 16810"/>
              <a:gd name="adj2" fmla="val 831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Enter characters as shown in the picture on the lef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圓角矩形圖說文字 11"/>
          <p:cNvSpPr/>
          <p:nvPr/>
        </p:nvSpPr>
        <p:spPr>
          <a:xfrm>
            <a:off x="1979640" y="2852640"/>
            <a:ext cx="2879640" cy="1152720"/>
          </a:xfrm>
          <a:prstGeom prst="wedgeRoundRectCallout">
            <a:avLst>
              <a:gd name="adj1" fmla="val 60675"/>
              <a:gd name="adj2" fmla="val -55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case you can’t view the Security Code clearly, please click “Regener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圓角矩形 14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Login by User ID and passwo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圓角矩形圖說文字 15"/>
          <p:cNvSpPr/>
          <p:nvPr/>
        </p:nvSpPr>
        <p:spPr>
          <a:xfrm>
            <a:off x="6732720" y="227664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Click “Login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投影片編號版面配置區 1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968D-7B4B-4D16-9311-4829BD289701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5148360" y="2530440"/>
            <a:ext cx="838080" cy="2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5867280" y="3008160"/>
            <a:ext cx="1755720" cy="34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矩形 17"/>
          <p:cNvSpPr/>
          <p:nvPr/>
        </p:nvSpPr>
        <p:spPr>
          <a:xfrm>
            <a:off x="7596360" y="3008160"/>
            <a:ext cx="750600" cy="34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rcRect l="7556" t="735" r="8985" b="10122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35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A412-F75B-4E1A-955F-7541A54B4C9E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Interface after login the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757080" y="3887640"/>
            <a:ext cx="1295640" cy="439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圓角矩形圖說文字 7"/>
          <p:cNvSpPr/>
          <p:nvPr/>
        </p:nvSpPr>
        <p:spPr>
          <a:xfrm>
            <a:off x="2916360" y="5256360"/>
            <a:ext cx="3673440" cy="1008000"/>
          </a:xfrm>
          <a:prstGeom prst="wedgeRoundRectCallout">
            <a:avLst>
              <a:gd name="adj1" fmla="val -74291"/>
              <a:gd name="adj2" fmla="val -1077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Purchase Order” or “Invoice &gt; Create Invoice” to search a purchase order for submitting 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矩形 8"/>
          <p:cNvSpPr/>
          <p:nvPr/>
        </p:nvSpPr>
        <p:spPr>
          <a:xfrm>
            <a:off x="757080" y="4824360"/>
            <a:ext cx="129564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e-invoice\training\screen cap\screen cap\en_08_create_invoice.png"/>
          <p:cNvPicPr/>
          <p:nvPr/>
        </p:nvPicPr>
        <p:blipFill>
          <a:blip r:embed="rId1"/>
          <a:srcRect l="11587" t="1346" r="10146" b="16555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241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CFFF-ADC3-4AAA-BC61-A79221741FBA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圓角矩形圖說文字 11"/>
          <p:cNvSpPr/>
          <p:nvPr/>
        </p:nvSpPr>
        <p:spPr>
          <a:xfrm>
            <a:off x="4572000" y="3213000"/>
            <a:ext cx="1728720" cy="50328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Display “search result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3" name="群組 15"/>
          <p:cNvGrpSpPr/>
          <p:nvPr/>
        </p:nvGrpSpPr>
        <p:grpSpPr>
          <a:xfrm>
            <a:off x="1978200" y="3886200"/>
            <a:ext cx="6372000" cy="2755800"/>
            <a:chOff x="1978200" y="3886200"/>
            <a:chExt cx="6372000" cy="2755800"/>
          </a:xfrm>
        </p:grpSpPr>
        <p:pic>
          <p:nvPicPr>
            <p:cNvPr id="244" name="Picture 4" descr=""/>
            <p:cNvPicPr/>
            <p:nvPr/>
          </p:nvPicPr>
          <p:blipFill>
            <a:blip r:embed="rId2"/>
            <a:stretch/>
          </p:blipFill>
          <p:spPr>
            <a:xfrm>
              <a:off x="1979640" y="6165360"/>
              <a:ext cx="421308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D:\e-invoice\training\screen cap\screen cap\en_09_search_po_result.png"/>
            <p:cNvPicPr/>
            <p:nvPr/>
          </p:nvPicPr>
          <p:blipFill>
            <a:blip r:embed="rId3"/>
            <a:srcRect l="28673" t="41812" r="16791" b="35248"/>
            <a:stretch/>
          </p:blipFill>
          <p:spPr>
            <a:xfrm>
              <a:off x="1978200" y="3886200"/>
              <a:ext cx="6372000" cy="227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圓角矩形圖說文字 7"/>
          <p:cNvSpPr/>
          <p:nvPr/>
        </p:nvSpPr>
        <p:spPr>
          <a:xfrm>
            <a:off x="4572000" y="1341360"/>
            <a:ext cx="2232000" cy="647640"/>
          </a:xfrm>
          <a:prstGeom prst="wedgeRoundRectCallout">
            <a:avLst>
              <a:gd name="adj1" fmla="val -21657"/>
              <a:gd name="adj2" fmla="val 8207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Enter searching criter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圓角矩形圖說文字 8"/>
          <p:cNvSpPr/>
          <p:nvPr/>
        </p:nvSpPr>
        <p:spPr>
          <a:xfrm>
            <a:off x="6732720" y="270828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lick “Search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圓角矩形圖說文字 13"/>
          <p:cNvSpPr/>
          <p:nvPr/>
        </p:nvSpPr>
        <p:spPr>
          <a:xfrm>
            <a:off x="5508720" y="5732640"/>
            <a:ext cx="1942920" cy="1081080"/>
          </a:xfrm>
          <a:prstGeom prst="wedgeRoundRectCallout">
            <a:avLst>
              <a:gd name="adj1" fmla="val 40273"/>
              <a:gd name="adj2" fmla="val -12722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Click “Create Invoice” to submit a new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-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矩形 16"/>
          <p:cNvSpPr/>
          <p:nvPr/>
        </p:nvSpPr>
        <p:spPr>
          <a:xfrm>
            <a:off x="7489800" y="3402000"/>
            <a:ext cx="72720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7251840" y="4624560"/>
            <a:ext cx="1041120" cy="214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圓角矩形 18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1 – Search P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3:28:34Z</dcterms:created>
  <dc:creator>David Lam</dc:creator>
  <dc:description/>
  <dc:language>en-US</dc:language>
  <cp:lastModifiedBy>Ken TY HO</cp:lastModifiedBy>
  <dcterms:modified xsi:type="dcterms:W3CDTF">2013-06-21T01:48:50Z</dcterms:modified>
  <cp:revision>502</cp:revision>
  <dc:subject/>
  <dc:title>e-Procurement Consultancy Study</dc:title>
</cp:coreProperties>
</file>