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wmf" ContentType="image/x-wmf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572E-4137-4DB0-8512-6486E6DDD6F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0CA4-080F-4D0D-87B0-16D343587EE4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ecure File Transfer Protocol(SFTP) server is suggested to be located inside the DMZ to receive structured message files from supplier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C0E-391F-41EB-81CF-F98B422D8A59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877F-C34F-498D-B900-E14A6648EA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B418-A876-41DD-B3E3-76EBDC8112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08AE-4C83-4AE3-B260-424D82DC01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D70-0BF1-45A9-A757-BF2791168E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27B-7A9E-4C33-8AA4-2F0BA08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286-5197-448B-BAE6-45F6A837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803-9161-40CF-AC64-502BBAA7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F39-5540-4774-8FD5-BCB1EBCA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AD6-F888-48ED-8E29-43924235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3A1E-1E3F-459A-827F-E6FF0931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E26-EE89-446F-861D-0C2CC5FC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EFA-8BCE-443A-9B2E-8B5DCAE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E2B-8C5D-48F5-AA23-342D808F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4CEC-F011-4D5B-8577-120338F9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CA8-99B1-4E1E-9DD7-B08FB96C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07FC-D085-4258-BCA0-54AF40BC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155A-35B8-4414-B7B3-26BEC62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3EA5-D819-439B-A9A0-D72AA06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99A-3FA0-42F4-8D2F-D080FB11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FD1-5C02-4AF0-B1B1-80346F1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B3DB-63B4-4D50-9600-830BFF39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1393-5BE6-47FD-B08B-998F26D7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7B77-2DAF-4832-B948-FD9049A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3189-64F9-4CE1-BAED-4BE89177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DACE-98CF-4163-97D3-89814E7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7E15-7341-44A1-BE0C-FD8C5493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080-69BA-4E49-BDB0-95D5EE75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7878-654F-4EA3-9CE4-3A7C991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5B75-4287-4E0C-91E0-20355FC2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71D7-BA19-4552-9E11-97FB1A1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B5A3-0C36-4CCF-846A-BE4C18F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7832-63EC-4D4A-9AE1-98830EF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67B4-47F1-4247-84CC-EC8DD6B3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F189-343A-4186-B340-947895CC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8E57-E9AD-4E37-91C0-2C5CCCB2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43D9-3C24-47AC-9C21-8D146FC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95A3-A07B-43A6-A101-B6E17E30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B99-F767-4D8A-948F-8695B32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5B32-26DD-44A4-A5AB-4F0701ED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2EDC-9AB6-4994-9B1E-34E7A63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65BEF-E829-4C90-9BDA-D85D7B80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0595-304E-4D41-BC74-EAABBAF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A5F5-F684-469C-AB04-2910E1A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3E1C-2FBB-461D-A05F-BCB77BA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9D42-BB25-4ACA-8BDF-184EF7B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CB44-E05D-4288-B9D7-B478B28A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CE08-D181-4375-A6CB-DD6126EC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89D-7CE1-42BA-AA47-2BB19DD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204-3C08-4BAF-A911-2E951D2E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0CA-C5E3-479D-974C-86E80FA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24B-3679-4E9A-A0FC-9D82E8D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048-4CF9-4A53-8433-7BDBFD1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0DA-5F6A-49FA-9FA3-D215CC6A31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05EE-A665-43B4-B656-F53FE29862B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手繪多邊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手繪多邊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群組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手繪多邊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手繪多邊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手繪多邊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手繪多邊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AA98-DBF4-48C1-AB30-390E5E7380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剪去並圓角化單一角落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手繪多邊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手繪多邊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65CE-987C-4746-BD5E-E1FF9F751D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eppmgmtoff@ogcio.gov.hk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09480" y="268200"/>
            <a:ext cx="7985160" cy="4102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10920" y="4797000"/>
            <a:ext cx="78548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0&amp;27 May 201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99B-110D-466B-86BC-2230EA3975F9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D:\e-invoice\training\screen cap\screen cap\en_10_prepare_invoice.png"/>
          <p:cNvPicPr/>
          <p:nvPr/>
        </p:nvPicPr>
        <p:blipFill>
          <a:blip r:embed="rId1"/>
          <a:srcRect l="11721" t="884" r="10011" b="53415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5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3072-65B4-427C-8594-1F8CA3D08580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圓角矩形圖說文字 5"/>
          <p:cNvSpPr/>
          <p:nvPr/>
        </p:nvSpPr>
        <p:spPr>
          <a:xfrm>
            <a:off x="3780000" y="981000"/>
            <a:ext cx="2447640" cy="1152720"/>
          </a:xfrm>
          <a:prstGeom prst="wedgeRoundRectCallout">
            <a:avLst>
              <a:gd name="adj1" fmla="val -20879"/>
              <a:gd name="adj2" fmla="val 6388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Invoice No.” is not specified, the system will generate a unique number for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圓角矩形圖說文字 6"/>
          <p:cNvSpPr/>
          <p:nvPr/>
        </p:nvSpPr>
        <p:spPr>
          <a:xfrm>
            <a:off x="6300720" y="2565360"/>
            <a:ext cx="1800360" cy="719280"/>
          </a:xfrm>
          <a:prstGeom prst="wedgeRoundRectCallout">
            <a:avLst>
              <a:gd name="adj1" fmla="val -91347"/>
              <a:gd name="adj2" fmla="val 4338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圓角矩形 7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D:\e-invoice\training\screen cap\screen cap\en_10_prepare_invoice.png"/>
          <p:cNvPicPr/>
          <p:nvPr/>
        </p:nvPicPr>
        <p:blipFill>
          <a:blip r:embed="rId1"/>
          <a:srcRect l="11721" t="44763" r="10011" b="9408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334F-EB70-4E8B-83BC-65C28214388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圓角矩形 4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2 – Prepare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圓角矩形圖說文字 5"/>
          <p:cNvSpPr/>
          <p:nvPr/>
        </p:nvSpPr>
        <p:spPr>
          <a:xfrm>
            <a:off x="34920" y="11592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 invoice item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圓角矩形圖說文字 7"/>
          <p:cNvSpPr/>
          <p:nvPr/>
        </p:nvSpPr>
        <p:spPr>
          <a:xfrm>
            <a:off x="34920" y="3962520"/>
            <a:ext cx="1800360" cy="1081080"/>
          </a:xfrm>
          <a:prstGeom prst="wedgeRoundRectCallout">
            <a:avLst>
              <a:gd name="adj1" fmla="val 67388"/>
              <a:gd name="adj2" fmla="val 2133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ter remarks, e.g. prompt payment dis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圓角矩形圖說文字 8"/>
          <p:cNvSpPr/>
          <p:nvPr/>
        </p:nvSpPr>
        <p:spPr>
          <a:xfrm>
            <a:off x="34920" y="2708280"/>
            <a:ext cx="1800360" cy="865080"/>
          </a:xfrm>
          <a:prstGeom prst="wedgeRoundRectCallout">
            <a:avLst>
              <a:gd name="adj1" fmla="val 67388"/>
              <a:gd name="adj2" fmla="val 239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ttachment if requir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圓角矩形圖說文字 10"/>
          <p:cNvSpPr/>
          <p:nvPr/>
        </p:nvSpPr>
        <p:spPr>
          <a:xfrm>
            <a:off x="2340000" y="3675240"/>
            <a:ext cx="2808360" cy="1726920"/>
          </a:xfrm>
          <a:prstGeom prst="wedgeRoundRectCallout">
            <a:avLst>
              <a:gd name="adj1" fmla="val -20824"/>
              <a:gd name="adj2" fmla="val 72486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load the previous saved invoice content,  click “Browse” to browse a file in your computer and then click “Load Draf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圓角矩形圖說文字 11"/>
          <p:cNvSpPr/>
          <p:nvPr/>
        </p:nvSpPr>
        <p:spPr>
          <a:xfrm>
            <a:off x="5940360" y="3645000"/>
            <a:ext cx="2808360" cy="1079280"/>
          </a:xfrm>
          <a:prstGeom prst="wedgeRoundRectCallout">
            <a:avLst>
              <a:gd name="adj1" fmla="val 21236"/>
              <a:gd name="adj2" fmla="val 8218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Continue” to continue the submission of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圓角矩形圖說文字 9"/>
          <p:cNvSpPr/>
          <p:nvPr/>
        </p:nvSpPr>
        <p:spPr>
          <a:xfrm>
            <a:off x="5219640" y="3645000"/>
            <a:ext cx="2808360" cy="1079280"/>
          </a:xfrm>
          <a:prstGeom prst="wedgeRoundRectCallout">
            <a:avLst>
              <a:gd name="adj1" fmla="val -21500"/>
              <a:gd name="adj2" fmla="val 8571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want to submit later, click “Save As Draft” to save the invoice content to your compu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7524720" y="5199120"/>
            <a:ext cx="719280" cy="347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矩形 13"/>
          <p:cNvSpPr/>
          <p:nvPr/>
        </p:nvSpPr>
        <p:spPr>
          <a:xfrm>
            <a:off x="5651640" y="5186520"/>
            <a:ext cx="122400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矩形 14"/>
          <p:cNvSpPr/>
          <p:nvPr/>
        </p:nvSpPr>
        <p:spPr>
          <a:xfrm>
            <a:off x="5353200" y="6251400"/>
            <a:ext cx="865080" cy="23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矩形 15"/>
          <p:cNvSpPr/>
          <p:nvPr/>
        </p:nvSpPr>
        <p:spPr>
          <a:xfrm>
            <a:off x="7020000" y="6453360"/>
            <a:ext cx="1224000" cy="36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8000">
    <p:wipe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D:\e-invoice\training\screen cap\screen cap\en_11_confirm_invoice_ecert.png"/>
          <p:cNvPicPr/>
          <p:nvPr/>
        </p:nvPicPr>
        <p:blipFill>
          <a:blip r:embed="rId1"/>
          <a:srcRect l="11710" t="862" r="10019" b="47025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FF43-FCAC-4D48-9699-DA1356C48C6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" name="圓角矩形 4"/>
          <p:cNvGrpSpPr/>
          <p:nvPr/>
        </p:nvGrpSpPr>
        <p:grpSpPr>
          <a:xfrm>
            <a:off x="5364000" y="1762200"/>
            <a:ext cx="2810160" cy="1030320"/>
            <a:chOff x="5364000" y="1762200"/>
            <a:chExt cx="2810160" cy="1030320"/>
          </a:xfrm>
        </p:grpSpPr>
        <p:pic>
          <p:nvPicPr>
            <p:cNvPr id="274" name="圓角矩形 4" descr=""/>
            <p:cNvPicPr/>
            <p:nvPr/>
          </p:nvPicPr>
          <p:blipFill>
            <a:blip r:embed="rId2"/>
            <a:stretch/>
          </p:blipFill>
          <p:spPr>
            <a:xfrm>
              <a:off x="5364000" y="1762200"/>
              <a:ext cx="2810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470560" y="1952640"/>
              <a:ext cx="25938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Check the invoice information before submission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7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8FC3-1888-475B-87FD-3557A54FACEA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圓角矩形圖說文字 6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oose the invoice authentication metho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矩形 10"/>
          <p:cNvSpPr/>
          <p:nvPr/>
        </p:nvSpPr>
        <p:spPr>
          <a:xfrm>
            <a:off x="1979640" y="4264200"/>
            <a:ext cx="3384360" cy="296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5000">
    <p:wipe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D:\e-invoice\training\screen cap\screen cap\en_11_confirm_invoice_ecert.png"/>
          <p:cNvPicPr/>
          <p:nvPr/>
        </p:nvPicPr>
        <p:blipFill>
          <a:blip r:embed="rId1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8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7987-431C-48D9-86F7-545CCE6704A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Digital Certific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圓角矩形圖說文字 7"/>
          <p:cNvSpPr/>
          <p:nvPr/>
        </p:nvSpPr>
        <p:spPr>
          <a:xfrm>
            <a:off x="5796000" y="3789360"/>
            <a:ext cx="2592360" cy="158436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hoose the type of Digital Certificate, enter HKID No. or Certificate of Incorporation Registration 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圓角矩形圖說文字 8"/>
          <p:cNvSpPr/>
          <p:nvPr/>
        </p:nvSpPr>
        <p:spPr>
          <a:xfrm>
            <a:off x="6659640" y="5084640"/>
            <a:ext cx="2233440" cy="64800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Select the file of 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圓角矩形圖說文字 9"/>
          <p:cNvSpPr/>
          <p:nvPr/>
        </p:nvSpPr>
        <p:spPr>
          <a:xfrm>
            <a:off x="6084720" y="5300640"/>
            <a:ext cx="237492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password of Digital Certific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圓角矩形圖說文字 10"/>
          <p:cNvSpPr/>
          <p:nvPr/>
        </p:nvSpPr>
        <p:spPr>
          <a:xfrm>
            <a:off x="6516720" y="5013360"/>
            <a:ext cx="2232000" cy="79200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7534440" y="606888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圓角矩形圖說文字 12"/>
          <p:cNvSpPr/>
          <p:nvPr/>
        </p:nvSpPr>
        <p:spPr>
          <a:xfrm>
            <a:off x="3419640" y="2852640"/>
            <a:ext cx="244764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1 (Digital Certificat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:\e-invoice\training\screen cap\screen cap\en_12_confirm_invoice_secret.png"/>
          <p:cNvPicPr/>
          <p:nvPr/>
        </p:nvPicPr>
        <p:blipFill>
          <a:blip r:embed="rId1"/>
          <a:stretch/>
        </p:blipFill>
        <p:spPr>
          <a:xfrm>
            <a:off x="1835280" y="3933720"/>
            <a:ext cx="6465600" cy="251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D:\e-invoice\training\screen cap\screen cap\en_11_confirm_invoice_ecert.png"/>
          <p:cNvPicPr/>
          <p:nvPr/>
        </p:nvPicPr>
        <p:blipFill>
          <a:blip r:embed="rId2"/>
          <a:srcRect l="11710" t="39124" r="10019" b="8555"/>
          <a:stretch/>
        </p:blipFill>
        <p:spPr>
          <a:xfrm>
            <a:off x="0" y="-5724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92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3D6-A617-49A9-9FBF-F0D7C37EFC66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圓角矩形 3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3 – Confirm Invoice (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by using Secret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2" descr="D:\e-invoice\training\screen cap\screen cap\en_12_confirm_invoice_secret.png"/>
          <p:cNvPicPr/>
          <p:nvPr/>
        </p:nvPicPr>
        <p:blipFill>
          <a:blip r:embed="rId3"/>
          <a:stretch/>
        </p:blipFill>
        <p:spPr>
          <a:xfrm>
            <a:off x="1847880" y="3933720"/>
            <a:ext cx="6464160" cy="2519640"/>
          </a:xfrm>
          <a:prstGeom prst="rect">
            <a:avLst/>
          </a:prstGeom>
          <a:ln w="0">
            <a:noFill/>
          </a:ln>
        </p:spPr>
      </p:pic>
      <p:sp>
        <p:nvSpPr>
          <p:cNvPr id="295" name="圓角矩形圖說文字 7"/>
          <p:cNvSpPr/>
          <p:nvPr/>
        </p:nvSpPr>
        <p:spPr>
          <a:xfrm>
            <a:off x="5796000" y="3500280"/>
            <a:ext cx="2592360" cy="1152720"/>
          </a:xfrm>
          <a:prstGeom prst="wedgeRoundRectCallout">
            <a:avLst>
              <a:gd name="adj1" fmla="val -61009"/>
              <a:gd name="adj2" fmla="val 59277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heck your email account to receive secret code, and then enter the secret co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圓角矩形圖說文字 8"/>
          <p:cNvSpPr/>
          <p:nvPr/>
        </p:nvSpPr>
        <p:spPr>
          <a:xfrm>
            <a:off x="6659640" y="4724280"/>
            <a:ext cx="2233440" cy="649440"/>
          </a:xfrm>
          <a:prstGeom prst="wedgeRoundRectCallout">
            <a:avLst>
              <a:gd name="adj1" fmla="val -60236"/>
              <a:gd name="adj2" fmla="val 235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Enter your login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圓角矩形圖說文字 9"/>
          <p:cNvSpPr/>
          <p:nvPr/>
        </p:nvSpPr>
        <p:spPr>
          <a:xfrm>
            <a:off x="1042920" y="5805360"/>
            <a:ext cx="3673440" cy="936720"/>
          </a:xfrm>
          <a:prstGeom prst="wedgeRoundRectCallout">
            <a:avLst>
              <a:gd name="adj1" fmla="val 64087"/>
              <a:gd name="adj2" fmla="val -49351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Click Here” to generate secret code and send it to your registered email 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7520040" y="601992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圓角矩形圖說文字 13"/>
          <p:cNvSpPr/>
          <p:nvPr/>
        </p:nvSpPr>
        <p:spPr>
          <a:xfrm>
            <a:off x="3564000" y="2997360"/>
            <a:ext cx="2448000" cy="1008000"/>
          </a:xfrm>
          <a:prstGeom prst="wedgeRoundRectCallout">
            <a:avLst>
              <a:gd name="adj1" fmla="val -39375"/>
              <a:gd name="adj2" fmla="val 82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Select “Method 2 (Secret Code)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圓角矩形圖說文字 16"/>
          <p:cNvSpPr/>
          <p:nvPr/>
        </p:nvSpPr>
        <p:spPr>
          <a:xfrm>
            <a:off x="6227640" y="4941720"/>
            <a:ext cx="2232000" cy="7909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. Click “Confirm” to confirm submi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4"/>
          <a:srcRect l="0" t="0" r="32026" b="0"/>
          <a:stretch/>
        </p:blipFill>
        <p:spPr>
          <a:xfrm>
            <a:off x="468360" y="0"/>
            <a:ext cx="4824360" cy="4743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02" name="矩形 17"/>
          <p:cNvSpPr/>
          <p:nvPr/>
        </p:nvSpPr>
        <p:spPr>
          <a:xfrm>
            <a:off x="539640" y="2349360"/>
            <a:ext cx="36720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3" descr="D:\e-invoice\training\screen cap\screen cap\en_13_acknowledgement.png"/>
          <p:cNvPicPr/>
          <p:nvPr/>
        </p:nvPicPr>
        <p:blipFill>
          <a:blip r:embed="rId1"/>
          <a:srcRect l="11710" t="1047" r="10019" b="3597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4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A427-7CF4-4156-8FEC-9C66D955D16B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D:\e-invoice\training\screen cap\screen cap\en_13_acknowledgement.png"/>
          <p:cNvPicPr/>
          <p:nvPr/>
        </p:nvPicPr>
        <p:blipFill>
          <a:blip r:embed="rId1"/>
          <a:srcRect l="11710" t="27934" r="10019" b="9082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307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61FB-CA37-4DD5-915D-B0F67DD5D23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圓角矩形 5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Acknowledgement for submission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圓角矩形圖說文字 4"/>
          <p:cNvSpPr/>
          <p:nvPr/>
        </p:nvSpPr>
        <p:spPr>
          <a:xfrm>
            <a:off x="723600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rint” to print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矩形 6"/>
          <p:cNvSpPr/>
          <p:nvPr/>
        </p:nvSpPr>
        <p:spPr>
          <a:xfrm>
            <a:off x="7534440" y="6064200"/>
            <a:ext cx="720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矩形 7"/>
          <p:cNvSpPr/>
          <p:nvPr/>
        </p:nvSpPr>
        <p:spPr>
          <a:xfrm>
            <a:off x="6732720" y="6064200"/>
            <a:ext cx="718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圓角矩形圖說文字 8"/>
          <p:cNvSpPr/>
          <p:nvPr/>
        </p:nvSpPr>
        <p:spPr>
          <a:xfrm>
            <a:off x="6372360" y="5013360"/>
            <a:ext cx="1728720" cy="792000"/>
          </a:xfrm>
          <a:prstGeom prst="wedgeRoundRectCallout">
            <a:avLst>
              <a:gd name="adj1" fmla="val -20981"/>
              <a:gd name="adj2" fmla="val 79449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Save” to save a cop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" name="圓角矩形 9"/>
          <p:cNvGrpSpPr/>
          <p:nvPr/>
        </p:nvGrpSpPr>
        <p:grpSpPr>
          <a:xfrm>
            <a:off x="3560760" y="1158840"/>
            <a:ext cx="4613400" cy="1590840"/>
            <a:chOff x="3560760" y="1158840"/>
            <a:chExt cx="4613400" cy="1590840"/>
          </a:xfrm>
        </p:grpSpPr>
        <p:pic>
          <p:nvPicPr>
            <p:cNvPr id="314" name="圓角矩形 9" descr=""/>
            <p:cNvPicPr/>
            <p:nvPr/>
          </p:nvPicPr>
          <p:blipFill>
            <a:blip r:embed="rId2"/>
            <a:stretch/>
          </p:blipFill>
          <p:spPr>
            <a:xfrm>
              <a:off x="3560760" y="1158840"/>
              <a:ext cx="46134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706920" y="1266840"/>
              <a:ext cx="432252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E-mail acknowledgement will be sent to the account who submitted the e-Invoice and whose sub-accounts with “Receive e-Invoice acknowledgment” enabled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advTm="12000">
    <p:wipe dir="u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B480-748D-40AF-AD34-0E733C2D5872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- External Suppliers submit e-Invoice via structured message channel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Picture 5" descr="C:\Users\Eric Po\AppData\Local\Microsoft\Windows\Temporary Internet Files\Content.IE5\DFCGSZB4\MP900443451[1].jpg"/>
          <p:cNvPicPr/>
          <p:nvPr/>
        </p:nvPicPr>
        <p:blipFill>
          <a:blip r:embed="rId1"/>
          <a:srcRect l="0" t="0" r="4452" b="0"/>
          <a:stretch/>
        </p:blipFill>
        <p:spPr>
          <a:xfrm>
            <a:off x="28440" y="1484280"/>
            <a:ext cx="21337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43"/>
          <p:cNvGrpSpPr/>
          <p:nvPr/>
        </p:nvGrpSpPr>
        <p:grpSpPr>
          <a:xfrm>
            <a:off x="1979640" y="5445000"/>
            <a:ext cx="4581000" cy="1191240"/>
            <a:chOff x="1979640" y="5445000"/>
            <a:chExt cx="4581000" cy="1191240"/>
          </a:xfrm>
        </p:grpSpPr>
        <p:sp>
          <p:nvSpPr>
            <p:cNvPr id="320" name="Rectangle 29"/>
            <p:cNvSpPr/>
            <p:nvPr/>
          </p:nvSpPr>
          <p:spPr>
            <a:xfrm>
              <a:off x="1985400" y="5445000"/>
              <a:ext cx="457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. Acknowledgement (no. of accepted/rejected records; reasons for rejectio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1979640" y="5897880"/>
              <a:ext cx="457524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2" name="Rectangle 33"/>
          <p:cNvSpPr/>
          <p:nvPr/>
        </p:nvSpPr>
        <p:spPr>
          <a:xfrm>
            <a:off x="2065320" y="4762440"/>
            <a:ext cx="4883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4"/>
          <p:cNvGrpSpPr/>
          <p:nvPr/>
        </p:nvGrpSpPr>
        <p:grpSpPr>
          <a:xfrm>
            <a:off x="1973160" y="4365720"/>
            <a:ext cx="4614840" cy="825480"/>
            <a:chOff x="1973160" y="4365720"/>
            <a:chExt cx="4614840" cy="825480"/>
          </a:xfrm>
        </p:grpSpPr>
        <p:sp>
          <p:nvSpPr>
            <p:cNvPr id="324" name="Rectangle 31"/>
            <p:cNvSpPr/>
            <p:nvPr/>
          </p:nvSpPr>
          <p:spPr>
            <a:xfrm>
              <a:off x="1979280" y="4365720"/>
              <a:ext cx="460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 e-Invoice Structured Messag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1973160" y="4779360"/>
              <a:ext cx="4572000" cy="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61920" y="1484280"/>
            <a:ext cx="15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1"/>
          <p:cNvSpPr/>
          <p:nvPr/>
        </p:nvSpPr>
        <p:spPr>
          <a:xfrm>
            <a:off x="6622920" y="1550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imes New Roman"/>
              </a:rPr>
              <a:t>Pilot Depart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6559560" y="4336920"/>
            <a:ext cx="2620800" cy="2279880"/>
            <a:chOff x="6559560" y="4336920"/>
            <a:chExt cx="2620800" cy="2279880"/>
          </a:xfrm>
        </p:grpSpPr>
        <p:pic>
          <p:nvPicPr>
            <p:cNvPr id="329" name="Picture 12" descr="C:\Users\Eric Po\AppData\Local\Microsoft\Windows\Temporary Internet Files\Content.IE5\YN4F3SF3\MC900434845[1].png"/>
            <p:cNvPicPr/>
            <p:nvPr/>
          </p:nvPicPr>
          <p:blipFill>
            <a:blip r:embed="rId2"/>
            <a:stretch/>
          </p:blipFill>
          <p:spPr>
            <a:xfrm>
              <a:off x="6559560" y="4336920"/>
              <a:ext cx="1912320" cy="21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2" descr="C:\Users\Eric Po\AppData\Local\Microsoft\Windows\Temporary Internet Files\Content.IE5\YN4F3SF3\MC900434845[1].png"/>
            <p:cNvPicPr/>
            <p:nvPr/>
          </p:nvPicPr>
          <p:blipFill>
            <a:blip r:embed="rId3"/>
            <a:stretch/>
          </p:blipFill>
          <p:spPr>
            <a:xfrm>
              <a:off x="7268040" y="4510440"/>
              <a:ext cx="1912320" cy="21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5" descr="C:\Program Files (x86)\Microsoft Office\MEDIA\CAGCAT10\j0292020.wmf"/>
          <p:cNvPicPr/>
          <p:nvPr/>
        </p:nvPicPr>
        <p:blipFill>
          <a:blip r:embed="rId4"/>
          <a:stretch/>
        </p:blipFill>
        <p:spPr>
          <a:xfrm flipH="1">
            <a:off x="6856560" y="1959120"/>
            <a:ext cx="1614240" cy="1531800"/>
          </a:xfrm>
          <a:prstGeom prst="rect">
            <a:avLst/>
          </a:prstGeom>
          <a:ln w="0">
            <a:noFill/>
          </a:ln>
        </p:spPr>
      </p:pic>
      <p:grpSp>
        <p:nvGrpSpPr>
          <p:cNvPr id="332" name="Group 1"/>
          <p:cNvGrpSpPr/>
          <p:nvPr/>
        </p:nvGrpSpPr>
        <p:grpSpPr>
          <a:xfrm>
            <a:off x="23760" y="4581360"/>
            <a:ext cx="1514520" cy="2340000"/>
            <a:chOff x="23760" y="4581360"/>
            <a:chExt cx="1514520" cy="2340000"/>
          </a:xfrm>
        </p:grpSpPr>
        <p:pic>
          <p:nvPicPr>
            <p:cNvPr id="333" name="Picture 13" descr="C:\Users\Eric Po\AppData\Local\Microsoft\Windows\Temporary Internet Files\Content.IE5\DFCGSZB4\MC900435242[1].png"/>
            <p:cNvPicPr/>
            <p:nvPr/>
          </p:nvPicPr>
          <p:blipFill>
            <a:blip r:embed="rId5"/>
            <a:stretch/>
          </p:blipFill>
          <p:spPr>
            <a:xfrm>
              <a:off x="528480" y="4581360"/>
              <a:ext cx="1009800" cy="22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3" descr="C:\Users\Eric Po\AppData\Local\Microsoft\Windows\Temporary Internet Files\Content.IE5\DFCGSZB4\MC900435242[1].png"/>
            <p:cNvPicPr/>
            <p:nvPr/>
          </p:nvPicPr>
          <p:blipFill>
            <a:blip r:embed="rId6"/>
            <a:stretch/>
          </p:blipFill>
          <p:spPr>
            <a:xfrm>
              <a:off x="23760" y="4673520"/>
              <a:ext cx="1009800" cy="22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Line 39"/>
          <p:cNvSpPr/>
          <p:nvPr/>
        </p:nvSpPr>
        <p:spPr>
          <a:xfrm>
            <a:off x="539640" y="3814920"/>
            <a:ext cx="0" cy="622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9"/>
          <p:cNvSpPr/>
          <p:nvPr/>
        </p:nvSpPr>
        <p:spPr>
          <a:xfrm flipV="1">
            <a:off x="7524720" y="3525840"/>
            <a:ext cx="0" cy="8128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39"/>
          <p:cNvSpPr/>
          <p:nvPr/>
        </p:nvSpPr>
        <p:spPr>
          <a:xfrm>
            <a:off x="7956720" y="3517920"/>
            <a:ext cx="0" cy="82080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9"/>
          <p:cNvSpPr/>
          <p:nvPr/>
        </p:nvSpPr>
        <p:spPr>
          <a:xfrm flipV="1">
            <a:off x="900000" y="3787560"/>
            <a:ext cx="0" cy="649080"/>
          </a:xfrm>
          <a:prstGeom prst="line">
            <a:avLst/>
          </a:prstGeom>
          <a:ln w="3168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28"/>
          <p:cNvSpPr/>
          <p:nvPr/>
        </p:nvSpPr>
        <p:spPr>
          <a:xfrm>
            <a:off x="6948360" y="623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763"/>
                </a:solidFill>
                <a:latin typeface="Tahoma"/>
              </a:rPr>
              <a:t>e-Procurement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4098-17D4-40F0-8CB7-DEAE2588B941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E37-C56B-4D8F-9C8C-644132BF96EB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8CF2-E967-42F3-8A27-F096E60196C0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755640" y="2041560"/>
            <a:ext cx="1295280" cy="43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圓角矩形圖說文字 11"/>
          <p:cNvSpPr/>
          <p:nvPr/>
        </p:nvSpPr>
        <p:spPr>
          <a:xfrm>
            <a:off x="2987640" y="2781360"/>
            <a:ext cx="367200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Account Management &gt; Sub-account Management” to manage sub-accou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8250" t="2055" r="9334" b="3372"/>
          <a:stretch/>
        </p:blipFill>
        <p:spPr>
          <a:xfrm>
            <a:off x="0" y="-6048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349" name="投影片編號版面配置區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7DB5-53AA-49EC-902C-608BBE6190E7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2050920" y="6100920"/>
            <a:ext cx="633744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2" descr="D:\e-invoice\training\screen cap\screen cap\en_14_sub_account.png"/>
          <p:cNvPicPr/>
          <p:nvPr/>
        </p:nvPicPr>
        <p:blipFill>
          <a:blip r:embed="rId2"/>
          <a:srcRect l="28280" t="88420" r="17448" b="8579"/>
          <a:stretch/>
        </p:blipFill>
        <p:spPr>
          <a:xfrm>
            <a:off x="2048040" y="6210360"/>
            <a:ext cx="6340320" cy="422280"/>
          </a:xfrm>
          <a:prstGeom prst="rect">
            <a:avLst/>
          </a:prstGeom>
          <a:ln w="0">
            <a:noFill/>
          </a:ln>
        </p:spPr>
      </p:pic>
      <p:sp>
        <p:nvSpPr>
          <p:cNvPr id="352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ub-account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圓角矩形圖說文字 6"/>
          <p:cNvSpPr/>
          <p:nvPr/>
        </p:nvSpPr>
        <p:spPr>
          <a:xfrm>
            <a:off x="7093080" y="5157720"/>
            <a:ext cx="1295280" cy="792360"/>
          </a:xfrm>
          <a:prstGeom prst="wedgeRoundRectCallout">
            <a:avLst>
              <a:gd name="adj1" fmla="val 20504"/>
              <a:gd name="adj2" fmla="val 8302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av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矩形 7"/>
          <p:cNvSpPr/>
          <p:nvPr/>
        </p:nvSpPr>
        <p:spPr>
          <a:xfrm>
            <a:off x="7647120" y="6259680"/>
            <a:ext cx="73332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圓角矩形圖說文字 8"/>
          <p:cNvSpPr/>
          <p:nvPr/>
        </p:nvSpPr>
        <p:spPr>
          <a:xfrm>
            <a:off x="684360" y="1052640"/>
            <a:ext cx="7632720" cy="187164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View e-Invoice” is enabled,  the user can search all 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Create e-Invoice” is enabled,  the  user can search all PO and create invo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“Receive e-Invoice acknowledgment” is enabled, the user will receive E-mail acknowledgement when e-Invoice has been successfully submitted or e-Invoice has been rejected by the Government offic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矩形 9"/>
          <p:cNvSpPr/>
          <p:nvPr/>
        </p:nvSpPr>
        <p:spPr>
          <a:xfrm>
            <a:off x="4572000" y="3141720"/>
            <a:ext cx="2160720" cy="57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26EA-75C8-4EFB-9107-8352A054F6C7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Points need to be aware when using e-Invoice Serv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tup sub-account and grant access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mmunicate with your Government Officer before sending the e-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 the on-line status of e-Invoice periodically (You will receive e-mail if reject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ou can still send paper invoice but e-Invoice is prefer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FB9D-D7AB-4295-B34C-8CA85C65F55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Helpdes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 No.:   (852) 8107 0608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x No.:  (852) 2645 800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-Mail:    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eppmgmtoff@ogcio.gov.h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rating Hours:    08:00 am - 09:00 pm Monday to Friday except public holi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42D-A286-4F47-AE6C-EC42954A90E0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1C6-601F-49A3-ADFD-7D924D25CC73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字方塊 3"/>
          <p:cNvSpPr/>
          <p:nvPr/>
        </p:nvSpPr>
        <p:spPr>
          <a:xfrm>
            <a:off x="3104640" y="3068640"/>
            <a:ext cx="29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投影片編號版面配置區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212-56EA-4E06-B44F-CEA2119F36F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187280" y="1052640"/>
            <a:ext cx="7793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9B0-91AB-47B8-A703-110805D09C2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19890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light the difference between system flow of 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ice and paper invoice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2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Demonstrate the operation procedure of e-Invoice in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external portal for suppliers (including account setup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for e-Invoice) – 2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3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Points need to be aware when using e-Invoice Service 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– 10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4.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b2b2b2"/>
                </a:solidFill>
                <a:latin typeface="Constantia"/>
              </a:rPr>
              <a:t>Q&amp;A – 15 minu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971640" y="549360"/>
            <a:ext cx="7273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Microsoft JhengHe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0920" y="126792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-Invoice Module is an add-on to the e-P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c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1 (Web-form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line form will be added to the external portal for suppliers to submit electronic invo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at the end of June 201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 (Structured message channel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terface with the supplier’s system will be provided for submission of electronic invoice in pre-defined form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launched in Dec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834-09FF-48AC-91A0-8990A33FC574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1159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- External Suppliers submit e-Invoice via web-form channel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957-8FFD-4FD2-9D97-F7D4A7AD633A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資料庫圖表 6" descr=""/>
          <p:cNvPicPr/>
          <p:nvPr/>
        </p:nvPicPr>
        <p:blipFill>
          <a:blip r:embed="rId1"/>
          <a:stretch/>
        </p:blipFill>
        <p:spPr>
          <a:xfrm>
            <a:off x="-12600" y="1682640"/>
            <a:ext cx="9169200" cy="4687920"/>
          </a:xfrm>
          <a:prstGeom prst="rect">
            <a:avLst/>
          </a:prstGeom>
          <a:ln w="0">
            <a:noFill/>
          </a:ln>
        </p:spPr>
      </p:pic>
      <p:sp>
        <p:nvSpPr>
          <p:cNvPr id="217" name="文字方塊 4"/>
          <p:cNvSpPr/>
          <p:nvPr/>
        </p:nvSpPr>
        <p:spPr>
          <a:xfrm>
            <a:off x="826920" y="595008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mission of e-Invoice follows the flow of existing e-Sub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rcRect l="6455" t="0" r="7775" b="1025"/>
          <a:stretch/>
        </p:blipFill>
        <p:spPr>
          <a:xfrm>
            <a:off x="0" y="-1000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9" name="圓角矩形 18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e-Procurement websi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http://www.eprocurement.gov.h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矩形 20"/>
          <p:cNvSpPr/>
          <p:nvPr/>
        </p:nvSpPr>
        <p:spPr>
          <a:xfrm>
            <a:off x="611280" y="3068640"/>
            <a:ext cx="2305080" cy="61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圓角矩形圖說文字 19"/>
          <p:cNvSpPr/>
          <p:nvPr/>
        </p:nvSpPr>
        <p:spPr>
          <a:xfrm>
            <a:off x="1332000" y="2492280"/>
            <a:ext cx="1152360" cy="505080"/>
          </a:xfrm>
          <a:prstGeom prst="wedgeRoundRectCallout">
            <a:avLst>
              <a:gd name="adj1" fmla="val -35162"/>
              <a:gd name="adj2" fmla="val 8517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Logi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投影片編號版面配置區 2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F866-D1FB-4C8B-886F-EDEA9B55E76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rcRect l="7586" t="532" r="8683" b="1002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6"/>
          <p:cNvSpPr/>
          <p:nvPr/>
        </p:nvSpPr>
        <p:spPr>
          <a:xfrm>
            <a:off x="4643280" y="3645000"/>
            <a:ext cx="3097440" cy="1512720"/>
          </a:xfrm>
          <a:prstGeom prst="wedgeRoundRectCallout">
            <a:avLst>
              <a:gd name="adj1" fmla="val 19856"/>
              <a:gd name="adj2" fmla="val -65638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you have registered to login by Digital Certificate, please click “Login by Digital Certificate” to enter the login interfa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圓角矩形圖說文字 8"/>
          <p:cNvSpPr/>
          <p:nvPr/>
        </p:nvSpPr>
        <p:spPr>
          <a:xfrm>
            <a:off x="4859280" y="1341360"/>
            <a:ext cx="1728720" cy="792360"/>
          </a:xfrm>
          <a:prstGeom prst="wedgeRoundRectCallout">
            <a:avLst>
              <a:gd name="adj1" fmla="val -62972"/>
              <a:gd name="adj2" fmla="val 22643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user ID and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圓角矩形圖說文字 9"/>
          <p:cNvSpPr/>
          <p:nvPr/>
        </p:nvSpPr>
        <p:spPr>
          <a:xfrm>
            <a:off x="6012000" y="1125360"/>
            <a:ext cx="2089080" cy="790920"/>
          </a:xfrm>
          <a:prstGeom prst="wedgeRoundRectCallout">
            <a:avLst>
              <a:gd name="adj1" fmla="val 16810"/>
              <a:gd name="adj2" fmla="val 831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Enter characters as shown in the picture on the lef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圓角矩形圖說文字 11"/>
          <p:cNvSpPr/>
          <p:nvPr/>
        </p:nvSpPr>
        <p:spPr>
          <a:xfrm>
            <a:off x="1979640" y="2852640"/>
            <a:ext cx="2879640" cy="1152720"/>
          </a:xfrm>
          <a:prstGeom prst="wedgeRoundRectCallout">
            <a:avLst>
              <a:gd name="adj1" fmla="val 60675"/>
              <a:gd name="adj2" fmla="val -5550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case you can’t view the Security Code clearly, please click “Regene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圓角矩形 14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Login by User ID and passwo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圓角矩形圖說文字 15"/>
          <p:cNvSpPr/>
          <p:nvPr/>
        </p:nvSpPr>
        <p:spPr>
          <a:xfrm>
            <a:off x="6732720" y="227664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Click “Login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投影片編號版面配置區 1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9BD0-2471-40B8-9720-E2FF2116B0CD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148360" y="2530440"/>
            <a:ext cx="838080" cy="2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5867280" y="3008160"/>
            <a:ext cx="175572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矩形 17"/>
          <p:cNvSpPr/>
          <p:nvPr/>
        </p:nvSpPr>
        <p:spPr>
          <a:xfrm>
            <a:off x="7596360" y="3008160"/>
            <a:ext cx="750600" cy="34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rcRect l="7556" t="735" r="8985" b="10122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235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D5C-3CE2-4CE9-804C-CC360EBF8E8D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圓角矩形 5"/>
          <p:cNvSpPr/>
          <p:nvPr/>
        </p:nvSpPr>
        <p:spPr>
          <a:xfrm>
            <a:off x="3635280" y="44280"/>
            <a:ext cx="4753080" cy="86364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Interface after login the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757080" y="3887640"/>
            <a:ext cx="1295640" cy="43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圓角矩形圖說文字 7"/>
          <p:cNvSpPr/>
          <p:nvPr/>
        </p:nvSpPr>
        <p:spPr>
          <a:xfrm>
            <a:off x="2916360" y="5256360"/>
            <a:ext cx="3673440" cy="1008000"/>
          </a:xfrm>
          <a:prstGeom prst="wedgeRoundRectCallout">
            <a:avLst>
              <a:gd name="adj1" fmla="val -74291"/>
              <a:gd name="adj2" fmla="val -107750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“Purchase Order” or “Invoice &gt; Create Invoice” to search a purchase order for submitting 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757080" y="4824360"/>
            <a:ext cx="1295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:\e-invoice\training\screen cap\screen cap\en_08_create_invoice.png"/>
          <p:cNvPicPr/>
          <p:nvPr/>
        </p:nvPicPr>
        <p:blipFill>
          <a:blip r:embed="rId1"/>
          <a:srcRect l="11587" t="1346" r="10146" b="16555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241" name="投影片編號版面配置區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AE6-DE78-4367-BCDE-B7683789F08F}" type="slidenum">
              <a:rPr b="0" lang="en-GB" sz="1200" spc="-1" strike="noStrike">
                <a:solidFill>
                  <a:srgbClr val="045c75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圓角矩形圖說文字 11"/>
          <p:cNvSpPr/>
          <p:nvPr/>
        </p:nvSpPr>
        <p:spPr>
          <a:xfrm>
            <a:off x="4572000" y="3213000"/>
            <a:ext cx="1728720" cy="50328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. Display “search result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群組 15"/>
          <p:cNvGrpSpPr/>
          <p:nvPr/>
        </p:nvGrpSpPr>
        <p:grpSpPr>
          <a:xfrm>
            <a:off x="1978200" y="3886200"/>
            <a:ext cx="6372000" cy="2755800"/>
            <a:chOff x="1978200" y="3886200"/>
            <a:chExt cx="6372000" cy="2755800"/>
          </a:xfrm>
        </p:grpSpPr>
        <p:pic>
          <p:nvPicPr>
            <p:cNvPr id="244" name="Picture 4" descr=""/>
            <p:cNvPicPr/>
            <p:nvPr/>
          </p:nvPicPr>
          <p:blipFill>
            <a:blip r:embed="rId2"/>
            <a:stretch/>
          </p:blipFill>
          <p:spPr>
            <a:xfrm>
              <a:off x="1979640" y="6165360"/>
              <a:ext cx="421308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D:\e-invoice\training\screen cap\screen cap\en_09_search_po_result.png"/>
            <p:cNvPicPr/>
            <p:nvPr/>
          </p:nvPicPr>
          <p:blipFill>
            <a:blip r:embed="rId3"/>
            <a:srcRect l="28673" t="41812" r="16791" b="35248"/>
            <a:stretch/>
          </p:blipFill>
          <p:spPr>
            <a:xfrm>
              <a:off x="1978200" y="3886200"/>
              <a:ext cx="6372000" cy="227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圓角矩形圖說文字 7"/>
          <p:cNvSpPr/>
          <p:nvPr/>
        </p:nvSpPr>
        <p:spPr>
          <a:xfrm>
            <a:off x="4572000" y="1341360"/>
            <a:ext cx="2232000" cy="647640"/>
          </a:xfrm>
          <a:prstGeom prst="wedgeRoundRectCallout">
            <a:avLst>
              <a:gd name="adj1" fmla="val -21657"/>
              <a:gd name="adj2" fmla="val 82074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. Enter searching criter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圓角矩形圖說文字 8"/>
          <p:cNvSpPr/>
          <p:nvPr/>
        </p:nvSpPr>
        <p:spPr>
          <a:xfrm>
            <a:off x="6732720" y="2708280"/>
            <a:ext cx="1726920" cy="504720"/>
          </a:xfrm>
          <a:prstGeom prst="wedgeRoundRectCallout">
            <a:avLst>
              <a:gd name="adj1" fmla="val 19333"/>
              <a:gd name="adj2" fmla="val 77615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2. Click “Search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圓角矩形圖說文字 13"/>
          <p:cNvSpPr/>
          <p:nvPr/>
        </p:nvSpPr>
        <p:spPr>
          <a:xfrm>
            <a:off x="5508720" y="5732640"/>
            <a:ext cx="1942920" cy="1081080"/>
          </a:xfrm>
          <a:prstGeom prst="wedgeRoundRectCallout">
            <a:avLst>
              <a:gd name="adj1" fmla="val 40273"/>
              <a:gd name="adj2" fmla="val -127222"/>
              <a:gd name="adj3" fmla="val 16667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. Click “Create Invoice” to submit a new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-Invo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矩形 16"/>
          <p:cNvSpPr/>
          <p:nvPr/>
        </p:nvSpPr>
        <p:spPr>
          <a:xfrm>
            <a:off x="7489800" y="3402000"/>
            <a:ext cx="72720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7251840" y="4624560"/>
            <a:ext cx="1041120" cy="21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圓角矩形 18"/>
          <p:cNvSpPr/>
          <p:nvPr/>
        </p:nvSpPr>
        <p:spPr>
          <a:xfrm>
            <a:off x="5364000" y="44280"/>
            <a:ext cx="3384720" cy="648000"/>
          </a:xfrm>
          <a:prstGeom prst="roundRect">
            <a:avLst>
              <a:gd name="adj" fmla="val 16667"/>
            </a:avLst>
          </a:prstGeom>
          <a:solidFill>
            <a:srgbClr val="a5c24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343f1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nstantia"/>
              </a:rPr>
              <a:t>Step 1 – Search 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3:28:34Z</dcterms:created>
  <dc:creator>David Lam</dc:creator>
  <dc:description/>
  <dc:language>en-US</dc:language>
  <cp:lastModifiedBy>Ken TY HO</cp:lastModifiedBy>
  <dcterms:modified xsi:type="dcterms:W3CDTF">2013-06-21T01:48:50Z</dcterms:modified>
  <cp:revision>502</cp:revision>
  <dc:subject/>
  <dc:title>e-Procurement Consultancy Study</dc:title>
</cp:coreProperties>
</file>